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wmf" ContentType="image/x-wmf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0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A8F9-218E-4CC1-8124-0412D63B03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FBA3-D11C-4C0B-9E87-636D4B2A8B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7FF8-5F66-4569-9785-33A926E99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132E-66DF-4FBC-A615-5C672527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881B-E205-499B-B319-050F1968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8F7E-15F3-4FCF-BD0E-4F05E97D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A0F0-D1F9-442D-8F3E-42505B7D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6C19-1C6E-4C13-A150-A6B4F5E5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7D10-12AE-4DEB-9877-D6C3AD77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340B-2BC5-4155-A10E-C203C37E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16C9-7BAE-4441-9E85-AA7F694C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5832-3D50-42B0-9FE1-B715BE6A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47A8-4A47-4A66-9981-1407B09B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A7C1-6827-439F-AB4C-B38B58B9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641C-DAAF-4E52-8EF9-05CE5693E7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19A5-756C-4C06-B97B-A3233D7DC1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D:/Florin/Carti/SWMPA/WebServices/ExempleDeClientiLaServiciiStandard/clientiUSersGateway/docClientUsersGateway/UsersGateway/ro/ubbcluj/cs/user/servXmlRpc/UsersGateway.html#authenticateUser(java.lang.String, java.lang.String, java.lang.String)" TargetMode="External"/><Relationship Id="rId2" Type="http://schemas.openxmlformats.org/officeDocument/2006/relationships/hyperlink" Target="file:///D:/Florin/Carti/SWMPA/WebServices/ExempleDeClientiLaServiciiStandard/clientiUSersGateway/docClientUsersGateway/UsersGateway/ro/ubbcluj/cs/user/servXmlRpc/UsersGateway.html#getAllAni(java.lang.String, java.lang.String, java.lang.String)" TargetMode="External"/><Relationship Id="rId3" Type="http://schemas.openxmlformats.org/officeDocument/2006/relationships/hyperlink" Target="file:///D:/Florin/Carti/SWMPA/WebServices/ExempleDeClientiLaServiciiStandard/clientiUSersGateway/docClientUsersGateway/UsersGateway/ro/ubbcluj/cs/user/servXmlRpc/UsersGateway.html#getAllCatedre(java.lang.String, java.lang.String, java.lang.String)" TargetMode="External"/><Relationship Id="rId4" Type="http://schemas.openxmlformats.org/officeDocument/2006/relationships/hyperlink" Target="file:///D:/Florin/Carti/SWMPA/WebServices/ExempleDeClientiLaServiciiStandard/clientiUSersGateway/docClientUsersGateway/UsersGateway/ro/ubbcluj/cs/user/servXmlRpc/UsersGateway.html#getAllGrupe(java.lang.String, java.lang.String, java.lang.String)" TargetMode="External"/><Relationship Id="rId5" Type="http://schemas.openxmlformats.org/officeDocument/2006/relationships/hyperlink" Target="file:///D:/Florin/Carti/SWMPA/WebServices/ExempleDeClientiLaServiciiStandard/clientiUSersGateway/docClientUsersGateway/UsersGateway/ro/ubbcluj/cs/user/servXmlRpc/UsersGateway.html#getAllHosturi(java.lang.String, java.lang.String, java.lang.String)" TargetMode="External"/><Relationship Id="rId6" Type="http://schemas.openxmlformats.org/officeDocument/2006/relationships/hyperlink" Target="file:///D:/Florin/Carti/SWMPA/WebServices/ExempleDeClientiLaServiciiStandard/clientiUSersGateway/docClientUsersGateway/UsersGateway/ro/ubbcluj/cs/user/servXmlRpc/UsersGateway.html#getAllSpecializari(java.lang.String, java.lang.String, java.lang.String)" TargetMode="External"/><Relationship Id="rId7" Type="http://schemas.openxmlformats.org/officeDocument/2006/relationships/hyperlink" Target="file:///D:/Florin/Carti/SWMPA/WebServices/ExempleDeClientiLaServiciiStandard/clientiUSersGateway/docClientUsersGateway/UsersGateway/ro/ubbcluj/cs/user/servXmlRpc/UsersGateway.html#getAllUseri(java.lang.String, java.lang.String, java.lang.String)" TargetMode="External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gacy distributed compu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MQComm.jpg"/>
          <p:cNvPicPr/>
          <p:nvPr/>
        </p:nvPicPr>
        <p:blipFill>
          <a:blip r:embed="rId1"/>
          <a:stretch/>
        </p:blipFill>
        <p:spPr>
          <a:xfrm>
            <a:off x="228600" y="4800600"/>
            <a:ext cx="8386920" cy="1752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StubSkel.jpg"/>
          <p:cNvPicPr/>
          <p:nvPr/>
        </p:nvPicPr>
        <p:blipFill>
          <a:blip r:embed="rId2"/>
          <a:stretch/>
        </p:blipFill>
        <p:spPr>
          <a:xfrm>
            <a:off x="228600" y="2133720"/>
            <a:ext cx="8307360" cy="137160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590920" y="41911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Queue (e.g. J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1752480" y="1447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xies (Stub, Skeleton) (e.g. ONCRPC, RMI, COR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T triang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1"/>
          <p:cNvGraphicFramePr/>
          <p:nvPr/>
        </p:nvGraphicFramePr>
        <p:xfrm>
          <a:off x="304920" y="838080"/>
          <a:ext cx="861516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838080"/>
                    <a:ext cx="86151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ent1: earth (RES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380880" y="914400"/>
            <a:ext cx="8458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import http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onn = httplib.HTTPConnection("www.earthtools.org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onn.request("GET", "/timezone/46.75/23.58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res = conn.getrespon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rint res.status, res.rea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rint res.read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onn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onn = httplib.HTTPConnection("www.earthtools.org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onn.request("GET", "/sun/46.75/23.58/31/3/2/0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res = conn.getrespon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rint res.status, res.rea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rint res.read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onn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ent2: google search (SOAP) in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304920" y="838080"/>
            <a:ext cx="84582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?xml version='1.0' encoding='UTF-8'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soap11:Envelopesearch.x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xmlns="urn:GoogleSearch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xmlns:soap11="http://schemas.xmlsoap.org/soap/envelope/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soap11: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doGoogleSearc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key&gt;4B0KufpQFHJxhAxzua0tR11ElLNrHRJ6&lt;/ke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q&gt;rares boian&lt;/q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start&gt;0&lt;/star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maxResults&gt;10&lt;/maxResul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filter&gt;true&lt;/fil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restrict&gt;&lt;/restric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safeSearch&gt;false&lt;/safeSearc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lr&gt;&lt;/l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ie&gt;latin1&lt;/i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oe&gt;latin1&lt;/o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/doGoogleSearc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/soap11: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/soap11:Envelop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ent2: google search (SOAP) java 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0" y="6415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impor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-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ublic class GoogleClien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ublic static void main(String[] args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tring wsdl = "http://api.google.com/GoogleSearch.wsdl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URL url = new URL(wsd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QName serviceName = new QName("urn:GoogleSearch", "GoogleSearchService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QName portName = new QName("urn:GoogleSearch", "GoogleSearchPort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ervice service = Service.create(url, serviceNam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ispatch dispatch = service.createDispatch(portNam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OAPMessage.class, Service.Mode.MESSAG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MessageFactory mf = MessageFactory.newInstanc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OAPMessage req = mf.createMessage(null, new FileInputStream(args[0]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OAPMessage res = (SOAPMessage)dispatch.invoke(req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res.writeTo(System.o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ent3: UsersGate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280" y="685800"/>
          <a:ext cx="8686800" cy="579132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32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authenticateUser</a:t>
                      </a: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tring user, String password, String host)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Autentifica pe </a:t>
                      </a:r>
                      <a:r>
                        <a:rPr b="0" i="1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st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utilizatorul </a:t>
                      </a:r>
                      <a:r>
                        <a:rPr b="0" i="1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r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cu parola </a:t>
                      </a:r>
                      <a:r>
                        <a:rPr b="0" i="1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sword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65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getAllAni</a:t>
                      </a: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tring user, String password, String host)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Intoarce anii in format CSV (Comma Separator Valu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47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getAllCatedre</a:t>
                      </a: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tring user, String password, String host)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Intoarce toate catedrele in format CSV (Comma Separator Valu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65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getAllGrupe</a:t>
                      </a: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tring user, String password, String host)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Intoarce toate grupele in format CSV (Comma Separator Valu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65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getAllHosturi</a:t>
                      </a: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tring user, String password, String host)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Intoarce toate hosturile in format CSV (Comma Separator Valu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32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getAllSpecializari</a:t>
                      </a: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tring user, String password, String host)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Intoarce toate specializarile in format CSV (Comma Separator Valu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65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getAllUseri</a:t>
                      </a: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tring user, String password, String host)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Intoarce toti userii in format CSV (Comma Separator Valu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8588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getUsers</a:t>
                      </a: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tring user, String password, String host, String filtru)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Lista utilizatorilor care satisfac </a:t>
                      </a:r>
                      <a:r>
                        <a:rPr b="0" i="1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tru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solicitata de </a:t>
                      </a:r>
                      <a:r>
                        <a:rPr b="0" i="1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r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cu parola</a:t>
                      </a:r>
                      <a:r>
                        <a:rPr b="0" i="1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sword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de pe </a:t>
                      </a:r>
                      <a:r>
                        <a:rPr b="0" i="1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st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8588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endMail</a:t>
                      </a: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tring user, String password, String host, String filtru, String subject, String mesaj)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Utilizatorilor care satisfac </a:t>
                      </a:r>
                      <a:r>
                        <a:rPr b="0" i="1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tru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li se transmite </a:t>
                      </a:r>
                      <a:r>
                        <a:rPr b="0" i="1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saj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cu subiectul</a:t>
                      </a:r>
                      <a:r>
                        <a:rPr b="0" i="1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ject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de catre </a:t>
                      </a:r>
                      <a:r>
                        <a:rPr b="0" i="1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r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cu parola </a:t>
                      </a:r>
                      <a:r>
                        <a:rPr b="0" i="1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sword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de pe </a:t>
                      </a:r>
                      <a:r>
                        <a:rPr b="0" i="1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st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otocol: Http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HttpComm.jpg"/>
          <p:cNvPicPr/>
          <p:nvPr/>
        </p:nvPicPr>
        <p:blipFill>
          <a:blip r:embed="rId1"/>
          <a:stretch/>
        </p:blipFill>
        <p:spPr>
          <a:xfrm>
            <a:off x="1447920" y="1600200"/>
            <a:ext cx="5735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otocol: SOAP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SOAPComm.jpg"/>
          <p:cNvPicPr/>
          <p:nvPr/>
        </p:nvPicPr>
        <p:blipFill>
          <a:blip r:embed="rId1"/>
          <a:stretch/>
        </p:blipFill>
        <p:spPr>
          <a:xfrm>
            <a:off x="762120" y="1371600"/>
            <a:ext cx="7670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AP data conver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SOAPDataConversion.jpg"/>
          <p:cNvPicPr/>
          <p:nvPr/>
        </p:nvPicPr>
        <p:blipFill>
          <a:blip r:embed="rId1"/>
          <a:stretch/>
        </p:blipFill>
        <p:spPr>
          <a:xfrm>
            <a:off x="0" y="2057400"/>
            <a:ext cx="89359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SDL el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WSDLElements.jpg"/>
          <p:cNvPicPr/>
          <p:nvPr/>
        </p:nvPicPr>
        <p:blipFill>
          <a:blip r:embed="rId1"/>
          <a:stretch/>
        </p:blipFill>
        <p:spPr>
          <a:xfrm>
            <a:off x="228600" y="2209680"/>
            <a:ext cx="862632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SDL 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WSDLOperations.jpg"/>
          <p:cNvPicPr/>
          <p:nvPr/>
        </p:nvPicPr>
        <p:blipFill>
          <a:blip r:embed="rId1"/>
          <a:stretch/>
        </p:blipFill>
        <p:spPr>
          <a:xfrm>
            <a:off x="1981080" y="758880"/>
            <a:ext cx="58676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ic Web ac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WS0.jpg"/>
          <p:cNvPicPr/>
          <p:nvPr/>
        </p:nvPicPr>
        <p:blipFill>
          <a:blip r:embed="rId1"/>
          <a:stretch/>
        </p:blipFill>
        <p:spPr>
          <a:xfrm>
            <a:off x="152280" y="1143000"/>
            <a:ext cx="8558280" cy="2133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HttpTrans.jpg"/>
          <p:cNvPicPr/>
          <p:nvPr/>
        </p:nvPicPr>
        <p:blipFill>
          <a:blip r:embed="rId2"/>
          <a:stretch/>
        </p:blipFill>
        <p:spPr>
          <a:xfrm>
            <a:off x="304920" y="4038480"/>
            <a:ext cx="8529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1981080" cy="655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SDL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WSDL_example.jpg"/>
          <p:cNvPicPr/>
          <p:nvPr/>
        </p:nvPicPr>
        <p:blipFill>
          <a:blip r:embed="rId1"/>
          <a:stretch/>
        </p:blipFill>
        <p:spPr>
          <a:xfrm>
            <a:off x="2057400" y="152280"/>
            <a:ext cx="7086600" cy="65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classic web (multi companies fusion in a corporatio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lassicWeb.jpg"/>
          <p:cNvPicPr/>
          <p:nvPr/>
        </p:nvPicPr>
        <p:blipFill>
          <a:blip r:embed="rId1"/>
          <a:stretch/>
        </p:blipFill>
        <p:spPr>
          <a:xfrm>
            <a:off x="2895480" y="1392120"/>
            <a:ext cx="43434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using web service(multi companies fusion in a corporatio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WSWeb.jpg"/>
          <p:cNvPicPr/>
          <p:nvPr/>
        </p:nvPicPr>
        <p:blipFill>
          <a:blip r:embed="rId1"/>
          <a:stretch/>
        </p:blipFill>
        <p:spPr>
          <a:xfrm>
            <a:off x="2871720" y="1405080"/>
            <a:ext cx="457992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b serv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WS1.jpg"/>
          <p:cNvPicPr/>
          <p:nvPr/>
        </p:nvPicPr>
        <p:blipFill>
          <a:blip r:embed="rId1"/>
          <a:stretch/>
        </p:blipFill>
        <p:spPr>
          <a:xfrm>
            <a:off x="1676520" y="1295280"/>
            <a:ext cx="61722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S components and protoc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1"/>
          <p:cNvGraphicFramePr/>
          <p:nvPr/>
        </p:nvGraphicFramePr>
        <p:xfrm>
          <a:off x="1069920" y="914400"/>
          <a:ext cx="670248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9920" y="914400"/>
                    <a:ext cx="67024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3"/>
          <p:cNvGraphicFramePr/>
          <p:nvPr/>
        </p:nvGraphicFramePr>
        <p:xfrm>
          <a:off x="1295280" y="2666880"/>
          <a:ext cx="6553440" cy="389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666880"/>
                    <a:ext cx="655344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S platforms and techn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19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OAP+WSDL[+UDDI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XMLRPC (no WSDL, no UDD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Tful web services (no WSDL, UDD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952520" y="1523520"/>
            <a:ext cx="40388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va (AXIS, CORBA_IDL, EJB3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# + ASP.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yth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Straight Arrow Connector 8"/>
          <p:cNvCxnSpPr/>
          <p:nvPr/>
        </p:nvCxnSpPr>
        <p:spPr>
          <a:xfrm flipV="1">
            <a:off x="3657600" y="1828440"/>
            <a:ext cx="1296000" cy="3816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Straight Arrow Connector 9"/>
          <p:cNvCxnSpPr/>
          <p:nvPr/>
        </p:nvCxnSpPr>
        <p:spPr>
          <a:xfrm flipV="1">
            <a:off x="3276720" y="1904760"/>
            <a:ext cx="1753200" cy="137232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74" name="Straight Arrow Connector 10"/>
          <p:cNvCxnSpPr/>
          <p:nvPr/>
        </p:nvCxnSpPr>
        <p:spPr>
          <a:xfrm>
            <a:off x="3657600" y="2362320"/>
            <a:ext cx="1372320" cy="3816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Straight Arrow Connector 11"/>
          <p:cNvCxnSpPr/>
          <p:nvPr/>
        </p:nvCxnSpPr>
        <p:spPr>
          <a:xfrm>
            <a:off x="3657600" y="2514240"/>
            <a:ext cx="137232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Straight Arrow Connector 12"/>
          <p:cNvCxnSpPr/>
          <p:nvPr/>
        </p:nvCxnSpPr>
        <p:spPr>
          <a:xfrm>
            <a:off x="3657600" y="2666880"/>
            <a:ext cx="1372320" cy="10677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7" name="Straight Arrow Connector 19"/>
          <p:cNvCxnSpPr/>
          <p:nvPr/>
        </p:nvCxnSpPr>
        <p:spPr>
          <a:xfrm flipV="1">
            <a:off x="3352320" y="2818800"/>
            <a:ext cx="1677240" cy="5338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78" name="Straight Arrow Connector 20"/>
          <p:cNvCxnSpPr/>
          <p:nvPr/>
        </p:nvCxnSpPr>
        <p:spPr>
          <a:xfrm flipV="1">
            <a:off x="3352320" y="3352320"/>
            <a:ext cx="1677240" cy="15336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79" name="Straight Arrow Connector 21"/>
          <p:cNvCxnSpPr/>
          <p:nvPr/>
        </p:nvCxnSpPr>
        <p:spPr>
          <a:xfrm>
            <a:off x="3352320" y="3657600"/>
            <a:ext cx="1677240" cy="15480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80" name="Straight Arrow Connector 13"/>
          <p:cNvCxnSpPr/>
          <p:nvPr/>
        </p:nvCxnSpPr>
        <p:spPr>
          <a:xfrm flipV="1">
            <a:off x="3351600" y="2057400"/>
            <a:ext cx="1600920" cy="2667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Straight Arrow Connector 15"/>
          <p:cNvCxnSpPr/>
          <p:nvPr/>
        </p:nvCxnSpPr>
        <p:spPr>
          <a:xfrm flipV="1">
            <a:off x="3504240" y="2895120"/>
            <a:ext cx="1524600" cy="1829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Straight Arrow Connector 16"/>
          <p:cNvCxnSpPr/>
          <p:nvPr/>
        </p:nvCxnSpPr>
        <p:spPr>
          <a:xfrm flipV="1">
            <a:off x="3657600" y="3428640"/>
            <a:ext cx="1372320" cy="1372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Straight Arrow Connector 17"/>
          <p:cNvCxnSpPr/>
          <p:nvPr/>
        </p:nvCxnSpPr>
        <p:spPr>
          <a:xfrm flipV="1">
            <a:off x="3657600" y="3809160"/>
            <a:ext cx="1372320" cy="1220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A triang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SOA.jpg"/>
          <p:cNvPicPr/>
          <p:nvPr/>
        </p:nvPicPr>
        <p:blipFill>
          <a:blip r:embed="rId1"/>
          <a:stretch/>
        </p:blipFill>
        <p:spPr>
          <a:xfrm>
            <a:off x="0" y="1905120"/>
            <a:ext cx="6172200" cy="3357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WebservicesSOA.png"/>
          <p:cNvPicPr/>
          <p:nvPr/>
        </p:nvPicPr>
        <p:blipFill>
          <a:blip r:embed="rId2"/>
          <a:stretch/>
        </p:blipFill>
        <p:spPr>
          <a:xfrm>
            <a:off x="5753160" y="3778200"/>
            <a:ext cx="3390840" cy="3079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WSDLBasis.jpg"/>
          <p:cNvPicPr/>
          <p:nvPr/>
        </p:nvPicPr>
        <p:blipFill>
          <a:blip r:embed="rId3"/>
          <a:stretch/>
        </p:blipFill>
        <p:spPr>
          <a:xfrm>
            <a:off x="5772240" y="609480"/>
            <a:ext cx="337176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 example: Java service vs. VB cli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WSJavaClientWSVB.jpg"/>
          <p:cNvPicPr/>
          <p:nvPr/>
        </p:nvPicPr>
        <p:blipFill>
          <a:blip r:embed="rId1"/>
          <a:stretch/>
        </p:blipFill>
        <p:spPr>
          <a:xfrm>
            <a:off x="1981080" y="1127160"/>
            <a:ext cx="487692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8:41:33Z</dcterms:created>
  <dc:creator>florin</dc:creator>
  <dc:description/>
  <dc:language>en-US</dc:language>
  <cp:lastModifiedBy>florin</cp:lastModifiedBy>
  <dcterms:modified xsi:type="dcterms:W3CDTF">2011-03-16T15:14:34Z</dcterms:modified>
  <cp:revision>34</cp:revision>
  <dc:subject/>
  <dc:title>Classic Web access</dc:title>
</cp:coreProperties>
</file>