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F90-595C-4CB8-9EC4-928E6F6C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0B2-AB5E-48D2-A171-64C46096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6E5-B132-4FF8-AB99-29B40066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807-1485-4062-A607-FAF6E992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22D-1D5F-4035-AD59-384D0E5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CB2-C34B-48B2-9EC7-50D1BA02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AE7-FECC-4693-A36B-BC1C09CA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966-A21A-40AF-A67C-58D4661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0D1-5801-4240-8150-8D67E31D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9A6-BF94-4413-B495-89E8176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992-6879-4552-8584-80F9527D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0F0-A110-440F-B0D2-006B877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30F8-E7E6-4BE0-9F21-671F5656867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272-ECFA-47EB-A4B1-1CA3224D0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calhost:8080/ajaxFields/toUpcas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006-7C3B-4B3E-843B-277E8F63DC2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708660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60304CD-33C1-4661-A977-E92528671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; architecture, cli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programming; architecture, client processes, AJ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507-3B3A-4406-A2A1-49A281171A1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7C74DFF-AA46-4D8C-89F7-81DD5DDAA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iecte Java specializate pentru clienti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URL, HttpURLConnection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0" y="3808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net.*;  import java.io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class HttpUrl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tatic void main(String a[]) throws Exception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url = new URL("http://localhost/cgi-bin/Exec.py?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URLConnection conn = (HttpURLConnection)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Method("GE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.out.println(conn.getResponseCode()+" "+conn.getResponseMessag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feredReader 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String linie = in.readLine();  if (linie == null) break;      System.out.println(linie);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conn.disconnec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= new URL("http://localhost/cgi-bin/Exec.py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(HttpURLConnection)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Method("POST");    conn.setDoIn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Output(true);                     conn.setUseCaches(fals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Property("Content-Type", "application/x-www-form-urlencoded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StreamWriter oUt = new OutputStreamWriter(conn.getOutputStream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write("sir=negru&amp;nr1=66&amp;nr2=75")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flus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.out.println(conn.getResponseCode()+" "+conn.getResponseMessag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  String linie = in.readLine();      if (linie == null) break;      System.out.println(linie);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conn.disconnect();  }}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C19E-D8AB-4D23-ACD3-4F0E64169B5A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FEE2899-E5D1-4493-99B9-E4A5346BC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rsiune Java simpla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URLConnection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0" y="380880"/>
            <a:ext cx="8991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class Url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tatic void main(String a[]) throws Exception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url = new URL("http://localhost/cgi-bin/Exec.py?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Connection conn = 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feredReader 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String linie = in.readLine();     if (linie == null) break;       System.out.println(linie);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rl = new URL("http://localhost/cgi-bin/Exec.py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url.openConnectio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In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DoOutput(tru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UseCaches(fals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setRequestProperty("Content-Type", "application/x-www-form-urlencoded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StreamWriter oUt = new OutputStreamWriter(conn.getOutputStream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write("sir=negru&amp;nr1=66&amp;nr2=75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flus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= new BufferedReader(new InputStreamReader(conn.getInputStream()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( ;  ; ) { String linie = in.readLine();    if (linie == null) break;       System.out.println(linie);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.close();  } }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46C-85B6-4B8B-85DB-849289904DE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AB16AA82-8671-4B09-8BEE-5447ADF23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iecte C# specializate pentru access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ttpWebRequest, HttWebRespons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6320" y="457200"/>
            <a:ext cx="89913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ystem; using System.Net; using System.IO; using System.Tex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class Url {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ublic static void Main(String[] args) {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WebRequest req = (HttpWebRequest)WebRequest.Create(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http://localhost/cgi-bin/Exec.py?sir=negru&amp;nr1=66&amp;nr2=75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Method = "GET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ttpWebResponse res = (HttpWebResponse)req.GetResponse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eamReader reader = new StreamReader(res.GetResponseStream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s.StatusDescription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ader.ReadToEnd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 = (HttpWebRequest)WebRequest.Create("http://localhost/cgi-bin/Exec.py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Method = "POST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ContentType = "application/x-www-form-urlencoded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yte[] formData = UTF8Encoding.UTF8.GetBytes("sir=negru&amp;nr1=66&amp;nr2=75"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.ContentLength = formData.Length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eam oUt = req.GetRequestStream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.Write(formData, 0, formData.Length); oUt.Flush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 = (HttpWebResponse)req.GetResponse(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ader = new StreamReader(res.GetResponseStream()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s.StatusDescription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sole.WriteLine(reader.ReadToEnd());   }  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3A9F-37CD-4A5E-994D-6544F7EE253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707C1A6-C0C8-44EB-B98E-6F8763BDA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blioteca PHP specializata pe resurse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URL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0" y="395280"/>
            <a:ext cx="8991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conn = curl_ini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options = array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URL=&gt;"http://localhost/cgi-bin/Exec.py?sir=negru&amp;nr1=66&amp;nr2=75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HEADER=&gt;false, CURLOPT_HTTPGET=&gt;true, CURLOPT_RETURNTRANSFER=&gt;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setopt_array($conn, $option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res = curl_exec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close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ho $r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conn = curl_ini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options = array 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URL=&gt;"http://localhost/cgi-bin/Exec.py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HEADER=&gt;true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POST=&gt;tru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POSTFIELDS=&gt;"sir=negru&amp;nr1=66&amp;nr2=75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OPT_RETURNTRANSFER=&gt;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setopt_array($conn, $option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res = curl_exec ($con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l_close ($conn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ho $r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95C7-54E0-4C8A-AD4C-A298BDC20F4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1BF43DB-6A3E-4131-989E-94FBE1179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(Asinchronous Javascript And Xm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85800" y="609480"/>
            <a:ext cx="7620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ax – combinatie de tehnologii open sour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imbaje de prezentare bazate pe XHTML şi pe CS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acţiuni şi afişări dinamice bazate pe DOM (Document Object Model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himb de date şi manipulari folosind XML si XST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 asincron de date folosind XMLHttpReques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grare la client folosind JavaScrip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685800" y="3352680"/>
            <a:ext cx="76201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hnologii bazate pe Aj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type JavaScript framework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prototype.conio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jax Pages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ajax-pages.sourceforge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R Direct Web Remoting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getahead.ltd.uk/dw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K de la Potix Corporation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zk1.sourceforge.n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jo toolkit (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www.javapassio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Goog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rkut, Gmail, Google Groups, Google Suggest, Google Maps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19E9-6DD4-48BE-AF27-7BD96541089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728D099-7EBB-4A1A-BE47-1628C2ADF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ces clasic vs. access Ajax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B4F5-5D3D-41FB-BE70-65F5D142A8B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EE5E58CD-46AC-49E7-8FDF-C94B97534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ces clasic vs. acces Aja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6294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3C0-ED0D-4370-8A06-EFFFDA67F55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F17E9F9-740D-4852-BA97-1C0AED5B3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HttpRequest – definire, meto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XMLHttpRequest(); // Mozilla, Opera, Netscape, Firefox, Safari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ActiveXObject('MSXML2.XMLHTTP');  // IE # versi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cerere = new ActiveXObject('Microsoft.XMLHTTP'); // IE # versiu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1981080"/>
          <a:ext cx="8686800" cy="43056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Nam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n( method, URL, async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serName, password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fică methoda, URL, şi alte atribute opţionale ale cerer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d poate avea una dintre valorile "GET", "POST", "PUT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L poate fi unul relativ sau unul absol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ync specifică dacă cererea se face asincron sau nu. De regulă valoarea este true. In cazul false există riscuri de impa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nd( content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mite stringul de cerere (nume=value&amp;nume=value . . 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ResponseHeader( headerNam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valoarea headerului specific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RequestHeader( label, value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ugă o pereche label/value la headerul HTTP care va fi trim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AllResponseHeader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setul complet de head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bor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ulează cererea curent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8673-1AE7-46CC-8177-729CA6843D2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0681D8D6-D7A6-42EA-BC3F-21AD050F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HttpRequest - proprieta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838080" y="914400"/>
            <a:ext cx="5486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04920" y="762120"/>
          <a:ext cx="8458200" cy="5410080"/>
        </p:xfrm>
        <a:graphic>
          <a:graphicData uri="http://schemas.openxmlformats.org/drawingml/2006/table">
            <a:tbl>
              <a:tblPr/>
              <a:tblGrid>
                <a:gridCol w="3593880"/>
                <a:gridCol w="4864320"/>
              </a:tblGrid>
              <a:tr h="299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rie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4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ady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oarce starea obiectulu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= neiniţializat (nu s-a apelat op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= open - cerere în curs de încărcare (înainte de se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= sent - cerere încărcată, dar răspuns încă nesos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= receiving – răspuns în process de sos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= loaded – cerere rezolva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20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nreadystate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eră mecanismul de tratare a evenimentului readystate==4. Valoarea ei este, de regulă, funcţia (JavaScript) care procesează răspunsu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răspunsului (Http) de la server: 200 for "OK", 404 for "Not Found" etc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tus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 de mai sus dat ca şi string: “OK”, “Not Found” et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, prezentat ca şi un str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X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ăspunsul, prezentat ca şi un document XML. Acest răspuns poate fi parsat (la browser – motorul ) folosind W3C DOM şi apoi să actualizeze pagi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0B4-B1E2-436C-A0FB-114E3B4FF046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D6EBB37-D440-485A-A0F3-A12A98EFC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chema cadru a unei aplicatii Aja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64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26F-9D30-40A2-B316-C9A4F6FD5D98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05B5A1B-BB77-4B9C-9DEF-1420E923C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s “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Proxy” &amp; “Cach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63960" y="456480"/>
            <a:ext cx="61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xy: HTTP intermediaries that sit between clients and serv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647960" cy="1816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49320" y="3123360"/>
            <a:ext cx="76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che: HTTP storehouses that keep copies of popular web pages close to cli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5486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B97-0373-4B50-A4A5-29E4DF7C6AF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6BC4A48-CED7-484B-BFBB-AC5181789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– exemplul 1 – Upcase – interfata + ser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7010280" cy="29815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9"/>
          <p:cNvSpPr/>
          <p:nvPr/>
        </p:nvSpPr>
        <p:spPr>
          <a:xfrm>
            <a:off x="2209680" y="3429000"/>
            <a:ext cx="6934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er  + PH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?php   $nume = $_GET['name'];   echo strtoupper($nume); 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er + Servl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  doGet(HttpServletRequest req, HttpServletResponse res) 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.setContentType("text/plai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ng name = req.getParameter("name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Writer out = res.getWriter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.println(name.toUpperCase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-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3E0-0B1F-494B-A0A6-F5A1C7E6182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C41FFD2-7D1A-41C6-89C4-285C4617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Fields.htm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0" y="38088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DOCTYPE html PUBLIC "-//W3C//DTD XHTML 1.0 Strict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ttp://www.w3.org/TP/xhtml1/DTD/xhtml1-strict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-- Acest document, impreuna cu fisierele .js, trebuie sa se afle pe server! --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itle&gt;Test campuriAjax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 src="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jaxFields.j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&gt;url =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ocalhost:8080/ajaxFields/toUpca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&gt;    &lt;form&gt;      &lt;t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Sir1&lt;/td&gt;          &lt;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onKeyUp="doRequest('name',this.value,'cell1','GET');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Upcase1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cell1" disabled="disabled"/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          &lt;td&gt;Sir2&lt;/td&gt;          &lt;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onBlur="doRequest('name',this.value,'cell2','POST');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        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Upcase2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td&gt;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cell2" disabled="disabled"/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table&gt;     &lt;/form&gt;  &lt;/body&gt;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B2DD-F2B2-4AAC-B4FE-47AFE46FAD3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77609E2F-61BE-4D69-AE4D-6F47026A1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Fields.j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0" y="380880"/>
            <a:ext cx="9144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url, request,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doReque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ame, value, id, method) 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 - numele campului care va fi transmis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value - stringul de transmis la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d - id-ul campului unde se va depune raspunsul server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thod - metoda (GET sau POST) de transmitere a cerer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getXmlHttpRequest(); // necesar la fiecare apel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nreadystatechange = waitResponse;  // Fct proceseaza raspuns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method =="POST"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pen("POST", url, true); // deschide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tRequestHeader("Content-Type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application/x-www-form-urlencoded; charset=UTF-8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nd(name+"="+value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if (method == "GET"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open("GET", url+"?"+name+"="+value, true); // Desch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.send(""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Eroare la method (trebuie GET sau POST): "+method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507-15E7-4D01-AF70-FCB49491DB0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E9D3BBA9-09A8-4327-995C-17062C777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Fields.j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0" y="380880"/>
            <a:ext cx="899172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getXmlHttpReques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// Furnizeaza obiectul XMLHttpRequ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XMLHttpRequest(); // Mozila, Firefox, Netscape, Opera et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ActiveXObject('MSXML2.XMLHTTP'); // Microsoft 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new ActiveXObject('Microsoft.XMLHTTP'); // Microsoft 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e) {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Browserul nu poate lucra cu AJAX: "+e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 = false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}    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ques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showRespons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.getElementById(id).value = request.responseText; // depune raspunsu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</a:t>
            </a:r>
            <a:r>
              <a:rPr b="1" lang="en-US" sz="1500" spc="-1" strike="noStrike">
                <a:solidFill>
                  <a:srgbClr val="c00000"/>
                </a:solidFill>
                <a:latin typeface="Courier New"/>
                <a:ea typeface="Courier New"/>
              </a:rPr>
              <a:t>waitResponse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() { // Depune textul de la server in campul indexat cu 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request.readyState == 4) { // cerere rezolv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request.status == 200) { // raspuns O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Response(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lert("Eroare request.status: "+request.status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   }      }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33C9-C930-4C7A-8EB1-D54D4612D4F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04018FB-98A4-4A7A-8560-CE2A217C7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 – exemplul 2 – schimb XML - interf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5956200" cy="327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152280" y="4495680"/>
            <a:ext cx="3276720" cy="194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3581280" y="990720"/>
            <a:ext cx="5334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CC0-19E0-46B6-BA9B-10DB177D4C2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2C6C5B20-ACF8-402B-88FC-B9FE4D5FF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jaxXml.htm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152280" y="3808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-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script type="text/javascript" src="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jaxXml.j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&gt;&lt;/scrip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script type="text/javascript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rl = "http://localhost:8080/ajaxXml/ajaxXmlSender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script&gt;  &lt;/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body&gt;    &lt;h3&gt;Date personale&lt;/h3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form action="javascript:void%200"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onsubmit="doRequest('docDisplay', this);return false" </a:t>
            </a:r>
            <a:r>
              <a:rPr b="1" lang="en-US" sz="2000" spc="-1" strike="noStrike">
                <a:solidFill>
                  <a:srgbClr val="0d0d0d"/>
                </a:solidFill>
                <a:latin typeface="Calibri"/>
              </a:rPr>
              <a:t>method="post"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able&gt;         &lt;tr&gt;           &lt;td&gt;Prenume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prenume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 &lt;tr&gt;           &lt;td&gt;Nume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nume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 &lt;tr&gt;          &lt;td&gt;Sex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sex" size="2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  &lt;tr&gt;          &lt;td&gt;Tara: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td&gt;&lt;input type="text" name="tara" size="20"&gt;&lt;/t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tr&gt;      &lt;/table&gt;            &lt;button type="submit"&gt;Send&lt;/button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&lt;div id="docDisplay"&gt;&lt;/div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/form&gt;  &lt;/body&gt;&lt;/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1C64-B5F9-4C77-81D0-AB12269C48A9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A114B54-B22A-4CC5-BEA4-9AB8E0DE0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Xml.js 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38088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request, url, i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doReque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id, frm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.id = i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nreadystatechange = waitResponse;  // Fixeaza functia ce proceseaza raspuns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pen("POST", url, true); // deschide conexiunea cu serveru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setRequestHeader("Content-Type",  "application/x-www-form-urlencoded; charset=UTF-8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queryString="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 numberElements = frm.elements.length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(var i = 0; i &lt; numberElements-1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ryString += frm.elements[i].name+"="+ encodeURIComponent(frm.elements[i].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(i &lt; numberElements-2)       queryString +="&amp;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(!window.ActiveXObjec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overrideMimeType('"text/xml"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.send(queryString); // trimite cererea la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600" spc="-1" strike="noStrike">
                <a:solidFill>
                  <a:srgbClr val="c00000"/>
                </a:solidFill>
                <a:latin typeface="Calibri"/>
              </a:rPr>
              <a:t>getXmlHttpReque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) { // Furnizeaza obiectul XMLHttpRequ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y {      request = new XMLHttpRequest(); // Mozila, Firefox, Netscape, Opera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tr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new ActiveXObject('MSXML2.XMLHTTP'); // Microsoft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 try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new ActiveXObject('Microsoft.XMLHTTP'); // Microsoft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} catch (e) {        alert("Browserul nu poate lucra cu AJAX: "+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est = false;       }     }   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 request; 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242-22B3-4772-BDDB-641EA18C426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E374F64-8B28-44FE-A4F7-299FEE236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torul AjaxXml.js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3520" y="395280"/>
            <a:ext cx="8001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how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request.responseTex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doc = request.responseXM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root = doc.documentEleme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info = "&lt;h3&gt;Elementul radacina: &lt;/h3&gt;"+ root.node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 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(root.hasChildNodes()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ds=root.childNod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+= "&lt;h4&gt;Fii radacinii: nume : valoare&lt;h4/&gt;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(var i = 0; i &lt; nds.length; i++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+= nds[i].node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(nds[i].hasChildNodes()){        info+= " : "+nds[i].firstChild.nodeValue+"&lt;br/&gt;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        info+= " : vid&lt;br/&gt;";      } 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id).style.backgroundColor="yellow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id).innerHTML=inf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wait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)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Respon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      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  }    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C1E-AFA8-4E02-81B4-042E92845FA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7F264C6-8314-4DF4-90C7-55E5DD552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html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0" y="3808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head&gt;    &lt;title&gt;Exemplu AJAX PHP&lt;/tit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script type="text/javascript" src="ExecAjax.js"&gt;&lt;/scrip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body&gt;    &lt;form&gt;      &lt;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sir" size="1" onBlur="doRequestSir(this.value)" value="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upcase" size="1" disabled="disabled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      &lt;div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nr1" size="1" onBlur="doRequestSuma('nr1', this.value)" value="0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input type="text" id="nr2" size="1" onBlur="doRequestSuma('nr2', this.value)" value="0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&lt;input type="text" id="suma" size="1" disabled="disabled"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/div&gt;    &lt;/form&gt;   &lt;/body&gt;   &lt;/html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3274-20EC-4467-90CD-CDD62493E327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94283134-13EE-4265-A65B-FAEB4256D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j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1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0" y="380880"/>
            <a:ext cx="9144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ar url, request, id;   url = "</a:t>
            </a:r>
            <a:r>
              <a:rPr b="0" lang="en-US" sz="1900" spc="-1" strike="noStrike">
                <a:solidFill>
                  <a:srgbClr val="0070c0"/>
                </a:solidFill>
                <a:latin typeface="Calibri"/>
              </a:rPr>
              <a:t>http://localhost/ExecAjax.php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doRequestSir(valu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{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/ value - stringul de transmis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nreadystatechange = waitResponseSir;  // Functia ce proceseaza raspuns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pen("GET", url+"?sir="+value, true); // deschide conexiunea cu server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send(""); // trimite cererea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doRequestSuma(name, valu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 {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/ name  - numele campului transmis la server;  value - stringul de transmis la ser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 = getXmlHttpRequest(); // necesar la fiecare apel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nreadystatechange = waitResponseSuma;  // Functia ce proceseaza raspuns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open("GET", url+"?"+name+"="+value, true); // deschide conexiunea cu serveru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quest.send(""); // trimite cererea la ser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900" spc="-1" strike="noStrike">
                <a:solidFill>
                  <a:srgbClr val="c00000"/>
                </a:solidFill>
                <a:latin typeface="Calibri"/>
              </a:rPr>
              <a:t>getXmlHttpRequest()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{   try { request = new XMLHttpRequest(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try { request = new ActiveXObject('MSXML2.XMLHTTP'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try { request = new ActiveXObject('Microsoft.XMLHTTP'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} catch (e) { alert("Browserul nu poate lucra cu AJAX: "+e); request = false; } } 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turn request;}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B295-CCBA-4BD9-9E36-5B662894F02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113CE58D-0DC6-4DF7-8154-83685E519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s “Gateway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” &amp; “Tunne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80060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6248520" cy="2838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410040" y="45648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eway: special web servers that connect to other appl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90040" y="289476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nnel: special proxies that blindly forward HTTP commun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EDF-9F8F-4F4A-B9DA-97F62DE5C6A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DEF1868-EF46-4C3D-9EFA-3C7BB79A6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js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(2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0" y="380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waitResponseSir(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"upcase").value = request.responseText; // depune raspuns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waitResponseSuma(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{ // Depune textul de la server in campul indexat cu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readyState == 4) { // cerere rezolv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(request.status == 200) { // raspuns 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ument.getElementById("suma").value = request.responseText; // depune raspuns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ert("Eroare request.status: "+request.stat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E14-1E46-452C-A829-67DDF777D07C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4323CB43-E325-4966-846D-29DB4EABE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xemplu AJAX cu trei campuri: serveru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ecAjax.php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76320" y="457200"/>
            <a:ext cx="8915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GET['sir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sir = $_GET['sir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strtoupper($sir)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else if (isset($_GET['nr1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1 = $_GET['nr1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cookie('nr1', $nr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2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COOKIE['nr2'])) $nr2 = $_COOKIE['nr2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$nr1 + $nr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 else if (isset($_GET['nr2'])) 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2 = $_GET['nr2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cookie('nr2', $nr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nr1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(isset($_COOKIE['nr1'])) $nr1 = $_COOKIE['nr1'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o $nr1 + $nr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6EC-CD31-484B-859F-43A8F19E4B42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995225D-A5C1-49EB-BB95-FE82C4FC4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b programming: prezentare generala  + Ajax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9" descr="questionmark.jpg"/>
          <p:cNvPicPr/>
          <p:nvPr/>
        </p:nvPicPr>
        <p:blipFill>
          <a:blip r:embed="rId1"/>
          <a:stretch/>
        </p:blipFill>
        <p:spPr>
          <a:xfrm>
            <a:off x="1828800" y="6094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5794-8F28-4655-8B02-63ADF5C2301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3A8702A-B482-4634-BAC2-EE42F8ABF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11C-C165-41A0-A110-325773FEF3B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40CB2E9-FF6B-49C0-B356-03B3D5B56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C667-407F-4C82-B903-B0B11CF509E5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DB822FC7-2A1F-4999-ADCB-94C33D11F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TL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architectural web component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“Agent (spider, web robot, crowler)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6320" y="1034280"/>
            <a:ext cx="510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r agents (or just agents) are client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at make HTTP requests on the user's behalf. Any application that issues web requests is an HTTP agent. So far, we've talked about only one kind of HTTP agent: web browsers. But there are many other kinds of user a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example, there are machine-automated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ts that autonomously wander the Web, issuing HTTP transactions and fetching content, without human supervis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se automated agents often have colorful names, such as "spiders“, “crowler” or "web robots“. Spiders wander the Web to build useful archives of web content, such as a search engine's database or a product catalog for a comparison-shopping robo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334120" y="533520"/>
            <a:ext cx="3616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995-B7E2-4415-BA2A-985C7BFDFC2F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37E5EF5D-561E-447B-AE56-27C78BABC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hitectura aplicatiilor We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76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F0F-EF58-4417-A1AC-248D8F32B303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803BFA04-9945-4CF4-A519-A5A8ED8D5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ceptare Web prin socket; exemplu su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8656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3505320"/>
            <a:ext cx="2819520" cy="230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048120" y="380880"/>
            <a:ext cx="6095880" cy="65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!DOCTYPE html PUBLIC "-//W3C//DTD XHTML 1.1//EN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"http://www.w3.org/TR/xhtml11/DTD/xhtml11.dtd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html xmlns="http://www.w3.org/1999/xhtml" 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head&gt;&lt;title&gt;Exemplu pentru interceptari&lt;/title&gt;&lt;/head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form action="http://localhost/cgi-bin/Exec.exe" method="POST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r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sir" size="1" value="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&amp;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label id="upcase"&gt;&lt;/labe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m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nr1" size="1" value="0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"text" name="nr2" size="1" value="0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label id="suma"&gt;0&lt;/labe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input type=submit value= "Exec"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form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&lt;/html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E44-4E22-4272-BFE0-2FB9341A3550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BF3C0715-5320-4069-ABFB-FC3A64B14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terceptare cereri Web prin sock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3808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soc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= "localhost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RT = 80 #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 impune oprirea serverului Web (port 80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= socket.socket(socket.AF_INET, socket.SOCK_STRE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.bind((HOST, PORT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.listen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, addr = s.accept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= conn.recv(102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not data: 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590920" y="1676520"/>
            <a:ext cx="6476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POST /cgi-bin/Exec.exe HTTP/1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Host: localho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User-Agent: Mozilla/5.0 (Windows; U; Windows NT 6.1; en-US) AppleWebKit/532.5 (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HTML, like Gecko) Chrome/4.0.249.89 Safari/532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tent-Length: 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ache-Control: max-age=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Origin: file:/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Content-Type: application/x-www-form-urlenco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: application/xml,application/xhtml+xml,text/html;q=0.9,text/plain;q=0.8,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mage/png,*/*;q=0.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Encoding: gzip,deflate,sd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Language: en-US,en;q=0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Accept-Charset: ISO-8859-1,utf-8;q=0.7,*;q=0.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Calibri"/>
              </a:rPr>
              <a:t>sir=negru&amp;nr1=66&amp;nr2=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5C7C-3D7C-4AC1-B747-BB301D0F02B1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58BC4295-65DB-4EFB-80AC-2FAAC10FC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licitare cerere si obtinere raspuns prin socket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0" y="380880"/>
            <a:ext cx="579132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mport sock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ST = "localhost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 = 8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 = socket.socket(socket.AF_INET, socket.SOCK_STREA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connect((HOST, PORT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 = ""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# Pentru GET se trece cererea in prima linie si dispare ultima lini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ST /cgi-bin/Exec.exe HTTP/1.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st: localhos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ent-Length: 2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r=negru&amp;nr1=66&amp;nr2=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"""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send(req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while 1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= s.recv(1024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not data: brea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nt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.close(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438280" y="2590920"/>
            <a:ext cx="6705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HTTP/1.1 200 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Date: Wed, 17 Mar 2010 07:00:55 G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Server: Apache/2.2.14 (Win32) DAV/2 mod_ssl/2.2.14 OpenSSL/0.9.8l mod_autoindex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olor PHP/5.3.1 mod_apreq2-20090110/2.7.1 mod_perl/2.0.4 Perl/v5.10.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Transfer-Encoding: chunk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ontent-Type: text/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2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&lt;!DOCTYPE html PUBLIC "-//W3C//DTD XHTML 1.1//EN""http://www.w3.org/TR/xhtml11/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TD/xhtml11.dtd"&gt;&lt;html xmlns="http://www.w3.org/1999/xhtml" &gt;&lt;head&gt;&lt;title&gt;Exempl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CGI&lt;/title&gt;&lt;/head&gt;&lt;body&gt;&lt;form action="/cgi-bin/Exec.exe" method="GET"&gt;&lt;div&gt;Si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&lt;input type="text" name="sir" size="1" value="negru"&gt;=&amp;gt;&lt;label id="upcase"&gt;NE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RU&lt;/label&gt;&lt;/div&gt;&lt;div&gt;Suma:&lt;input type="text" name="nr1" size="1" value="66"&gt;+&lt;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put type="text" name="nr2" size="1" value="75"&gt;=&lt;label id="suma"&gt;141&lt;/label&gt;&lt;/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v&gt;&lt;input type=submit value= "Exec"&gt;&lt;/form&gt;&lt;/body&gt;&lt;/html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alibri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929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5B4D-4680-451F-8186-F9E28701716B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ian Fl. WebProgr. </a:t>
            </a:r>
            <a:fld id="{F0933A31-620A-4A22-A11B-3675F94D3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34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384960" y="46083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90920" y="19051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odule Python specializate pentru clienti Web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ttplib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0" y="380880"/>
            <a:ext cx="8991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 httpl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httplib.HTTPConnection("localhost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request("GET", "/cgi-bin/Exec.py?sir=negru&amp;nr1=66&amp;nr2=75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 = conn.getrespon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status, res.rea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read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 = httplib.HTTPConnection("localhost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request("POST", "/cgi-bin/Exec.py", "sir=negru&amp;nr1=66&amp;nr2=75"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 = conn.getrespon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status, res.rea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res.read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.clos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05:05:29Z</dcterms:created>
  <dc:creator>florin</dc:creator>
  <dc:description/>
  <dc:language>en-US</dc:language>
  <cp:lastModifiedBy>Florin_Boian</cp:lastModifiedBy>
  <dcterms:modified xsi:type="dcterms:W3CDTF">2010-03-21T16:18:49Z</dcterms:modified>
  <cp:revision>107</cp:revision>
  <dc:subject/>
  <dc:title>HTTP: prezentare generala</dc:title>
</cp:coreProperties>
</file>