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5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99BF4-4B84-4CBE-B5CD-62609C465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B4356-32D9-4A86-95CD-AEDEA1719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57CF1-AD8B-48F0-8E2F-E62EA0DFF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CE7EF-E8B6-4151-B802-E7EA15B2D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42174-FF93-4911-B520-80EE8AFC6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4B688-C36F-4197-8012-59FD6CC1C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C92EE-2007-40EF-B11F-0F9BC9C7C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63188-A9CC-462B-B028-2712468AD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1E1BE-2E98-4452-AD69-5FD711599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B65E8-4581-4C2D-A2B9-EFA06B236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614C5-BDA2-4462-BAF4-6DB04ADC3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0EF39-3D81-40DD-A5CB-16217FC1A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83998-F098-4CE3-B9F4-EA19E01E1B9C}" type="datetime">
              <a:rPr b="0" lang="ro-RO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21FF2-D68A-466F-8FCA-2483FDF15D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0" y="6492960"/>
            <a:ext cx="914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61173-02EB-43EE-9761-9A441F4D0B6C}" type="datetime">
              <a:rPr b="0" lang="ro-RO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Slide Number Placeholder 4"/>
          <p:cNvSpPr/>
          <p:nvPr/>
        </p:nvSpPr>
        <p:spPr>
          <a:xfrm>
            <a:off x="7086600" y="649296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oian Fl. WebProgr. </a:t>
            </a:r>
            <a:fld id="{88B88BC5-391B-4C38-A3E4-8823225F07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/XX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2"/>
          <p:cNvSpPr/>
          <p:nvPr/>
        </p:nvSpPr>
        <p:spPr>
          <a:xfrm>
            <a:off x="6384960" y="4608360"/>
            <a:ext cx="1235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4"/>
          <p:cNvSpPr/>
          <p:nvPr/>
        </p:nvSpPr>
        <p:spPr>
          <a:xfrm>
            <a:off x="2590920" y="1905120"/>
            <a:ext cx="3809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5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Web programming; business serv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0773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eb programming;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usiness serv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Date Placeholder 3"/>
          <p:cNvSpPr/>
          <p:nvPr/>
        </p:nvSpPr>
        <p:spPr>
          <a:xfrm>
            <a:off x="0" y="6492960"/>
            <a:ext cx="914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5D773-B900-4B0C-8AF6-743ADBC06EB1}" type="datetime">
              <a:rPr b="0" lang="ro-RO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lide Number Placeholder 4"/>
          <p:cNvSpPr/>
          <p:nvPr/>
        </p:nvSpPr>
        <p:spPr>
          <a:xfrm>
            <a:off x="701028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oian Fl. WebProgr. </a:t>
            </a:r>
            <a:fld id="{28400550-3FBF-4342-A22D-53630770F0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/XX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2"/>
          <p:cNvSpPr/>
          <p:nvPr/>
        </p:nvSpPr>
        <p:spPr>
          <a:xfrm>
            <a:off x="6384960" y="4608360"/>
            <a:ext cx="1235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2590920" y="1905120"/>
            <a:ext cx="3809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Connected Tomcat to Apac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10"/>
          <p:cNvSpPr/>
          <p:nvPr/>
        </p:nvSpPr>
        <p:spPr>
          <a:xfrm>
            <a:off x="0" y="304920"/>
            <a:ext cx="91440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wnload </a:t>
            </a: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mod_jk-apache-2.2.4.s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rename </a:t>
            </a: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mod_jk.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/conf/httpd.con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LoadModule zone inser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b050"/>
                </a:solidFill>
                <a:latin typeface="Arial"/>
              </a:rPr>
              <a:t>LoadModule jk_module modules/mod_jk.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 end of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fişierului /conf/httpd.conf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ert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c00000"/>
                </a:solidFill>
                <a:latin typeface="Arial"/>
              </a:rPr>
              <a:t>&lt;IfModule mod_jk.c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c00000"/>
                </a:solidFill>
                <a:latin typeface="Arial"/>
              </a:rPr>
              <a:t>  </a:t>
            </a:r>
            <a:r>
              <a:rPr b="1" lang="ro-RO" sz="1800" spc="-1" strike="noStrike">
                <a:solidFill>
                  <a:srgbClr val="c00000"/>
                </a:solidFill>
                <a:latin typeface="Arial"/>
              </a:rPr>
              <a:t>JkWorkersFile conf/workers.proper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c00000"/>
                </a:solidFill>
                <a:latin typeface="Arial"/>
              </a:rPr>
              <a:t>  </a:t>
            </a:r>
            <a:r>
              <a:rPr b="1" lang="ro-RO" sz="1800" spc="-1" strike="noStrike">
                <a:solidFill>
                  <a:srgbClr val="c00000"/>
                </a:solidFill>
                <a:latin typeface="Arial"/>
              </a:rPr>
              <a:t>JkLogFile logs/mod_jk.lo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c00000"/>
                </a:solidFill>
                <a:latin typeface="Arial"/>
              </a:rPr>
              <a:t>  </a:t>
            </a:r>
            <a:r>
              <a:rPr b="1" lang="ro-RO" sz="1800" spc="-1" strike="noStrike">
                <a:solidFill>
                  <a:srgbClr val="c00000"/>
                </a:solidFill>
                <a:latin typeface="Arial"/>
              </a:rPr>
              <a:t>JkLogLevel err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c00000"/>
                </a:solidFill>
                <a:latin typeface="Arial"/>
              </a:rPr>
              <a:t>  </a:t>
            </a:r>
            <a:r>
              <a:rPr b="1" lang="ro-RO" sz="1800" spc="-1" strike="noStrike">
                <a:solidFill>
                  <a:srgbClr val="c00000"/>
                </a:solidFill>
                <a:latin typeface="Arial"/>
              </a:rPr>
              <a:t>JkLogStampFormat "[%a %b %d %H:%M:%S %Y] 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c00000"/>
                </a:solidFill>
                <a:latin typeface="Arial"/>
              </a:rPr>
              <a:t>  </a:t>
            </a:r>
            <a:r>
              <a:rPr b="1" lang="ro-RO" sz="1800" spc="-1" strike="noStrike">
                <a:solidFill>
                  <a:srgbClr val="c00000"/>
                </a:solidFill>
                <a:latin typeface="Arial"/>
              </a:rPr>
              <a:t>JkOptions +ForwardKeySize +ForwardURICompat -ForwardDirecto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c00000"/>
                </a:solidFill>
                <a:latin typeface="Arial"/>
              </a:rPr>
              <a:t>  </a:t>
            </a:r>
            <a:r>
              <a:rPr b="1" lang="ro-RO" sz="1800" spc="-1" strike="noStrike">
                <a:solidFill>
                  <a:srgbClr val="c00000"/>
                </a:solidFill>
                <a:latin typeface="Arial"/>
              </a:rPr>
              <a:t>JkRequestLogFormat "%w %V %T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c00000"/>
                </a:solidFill>
                <a:latin typeface="Arial"/>
              </a:rPr>
              <a:t>  </a:t>
            </a:r>
            <a:r>
              <a:rPr b="1" lang="ro-RO" sz="1800" spc="-1" strike="noStrike">
                <a:solidFill>
                  <a:srgbClr val="c00000"/>
                </a:solidFill>
                <a:latin typeface="Arial"/>
              </a:rPr>
              <a:t>JkMount /Exec/ServExe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c00000"/>
                </a:solidFill>
                <a:latin typeface="Arial"/>
              </a:rPr>
              <a:t>&lt;/IfModul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In /conf cre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worker.propertie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e with contents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2060"/>
                </a:solidFill>
                <a:latin typeface="Arial"/>
              </a:rPr>
              <a:t>workers.tomcat_home=c:/apache-tomcat-6.0.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2060"/>
                </a:solidFill>
                <a:latin typeface="Arial"/>
              </a:rPr>
              <a:t>workers.java_home=c:/jdk1.6.0_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2060"/>
                </a:solidFill>
                <a:latin typeface="Arial"/>
              </a:rPr>
              <a:t>ps=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2060"/>
                </a:solidFill>
                <a:latin typeface="Arial"/>
              </a:rPr>
              <a:t>worker.list=Exe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2060"/>
                </a:solidFill>
                <a:latin typeface="Arial"/>
              </a:rPr>
              <a:t>worker.Exec.port=8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2060"/>
                </a:solidFill>
                <a:latin typeface="Arial"/>
              </a:rPr>
              <a:t>worker.Exec.host=localh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2060"/>
                </a:solidFill>
                <a:latin typeface="Arial"/>
              </a:rPr>
              <a:t>worker.Exec.type=ajp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Date Placeholder 3"/>
          <p:cNvSpPr/>
          <p:nvPr/>
        </p:nvSpPr>
        <p:spPr>
          <a:xfrm>
            <a:off x="0" y="6492960"/>
            <a:ext cx="914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51C49-2E45-49B8-B1BE-597E0AEAEFCA}" type="datetime">
              <a:rPr b="0" lang="ro-RO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lide Number Placeholder 4"/>
          <p:cNvSpPr/>
          <p:nvPr/>
        </p:nvSpPr>
        <p:spPr>
          <a:xfrm>
            <a:off x="701028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oian Fl. WebProgr. </a:t>
            </a:r>
            <a:fld id="{BC9CDCBF-EF5C-43DE-9A29-86F721F358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/XX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2"/>
          <p:cNvSpPr/>
          <p:nvPr/>
        </p:nvSpPr>
        <p:spPr>
          <a:xfrm>
            <a:off x="6384960" y="4608360"/>
            <a:ext cx="1235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2590920" y="1905120"/>
            <a:ext cx="3809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ASP.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6" descr="yedba920.urtarch(en-us,VS.71).gif"/>
          <p:cNvPicPr/>
          <p:nvPr/>
        </p:nvPicPr>
        <p:blipFill>
          <a:blip r:embed="rId1"/>
          <a:stretch/>
        </p:blipFill>
        <p:spPr>
          <a:xfrm>
            <a:off x="2514600" y="838080"/>
            <a:ext cx="4495680" cy="49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3"/>
          <p:cNvSpPr/>
          <p:nvPr/>
        </p:nvSpPr>
        <p:spPr>
          <a:xfrm>
            <a:off x="0" y="6492960"/>
            <a:ext cx="914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7CB03-AD86-45B9-8256-104C6090013D}" type="datetime">
              <a:rPr b="0" lang="ro-RO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lide Number Placeholder 4"/>
          <p:cNvSpPr/>
          <p:nvPr/>
        </p:nvSpPr>
        <p:spPr>
          <a:xfrm>
            <a:off x="701028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oian Fl. WebProgr. </a:t>
            </a:r>
            <a:fld id="{3D4C8F65-321B-42A3-99F7-60F00E0790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/XX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2"/>
          <p:cNvSpPr/>
          <p:nvPr/>
        </p:nvSpPr>
        <p:spPr>
          <a:xfrm>
            <a:off x="6384960" y="4608360"/>
            <a:ext cx="1235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2590920" y="1905120"/>
            <a:ext cx="3809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PH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6"/>
          <p:cNvSpPr/>
          <p:nvPr/>
        </p:nvSpPr>
        <p:spPr>
          <a:xfrm>
            <a:off x="0" y="380880"/>
            <a:ext cx="914400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 PHP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's browser makes an HTTP request to server for the CGI p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ending on the configuration of the server, it will figure out the request is not static content but a request to evaluate PHP code in an HTML document based on the directory and/or the file extens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odule that evaluates PHP code, already dynamically linked into apache and in memory, is called to evaluate the p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HP module is fed in the contents of the page, and interprets it. The stdout of the script is fed back t ap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HP module's output is sent back, with header information, to the brows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Date Placeholder 3"/>
          <p:cNvSpPr/>
          <p:nvPr/>
        </p:nvSpPr>
        <p:spPr>
          <a:xfrm>
            <a:off x="0" y="6492960"/>
            <a:ext cx="914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B6F36-BAC2-41E6-AFE7-5A439502083C}" type="datetime">
              <a:rPr b="0" lang="ro-RO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lide Number Placeholder 4"/>
          <p:cNvSpPr/>
          <p:nvPr/>
        </p:nvSpPr>
        <p:spPr>
          <a:xfrm>
            <a:off x="701028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oian Fl. WebProgr. </a:t>
            </a:r>
            <a:fld id="{D80F5E9B-2894-41B1-B194-1B2E84F275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/XX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2"/>
          <p:cNvSpPr/>
          <p:nvPr/>
        </p:nvSpPr>
        <p:spPr>
          <a:xfrm>
            <a:off x="6384960" y="4608360"/>
            <a:ext cx="1235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2590920" y="1905120"/>
            <a:ext cx="3809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SSP – Scriptng Server Pag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6"/>
          <p:cNvSpPr/>
          <p:nvPr/>
        </p:nvSpPr>
        <p:spPr>
          <a:xfrm>
            <a:off x="0" y="685800"/>
            <a:ext cx="85345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st group – client part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(X)HTML, CSS, JavaScript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group –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erv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rt can be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  <a:ea typeface="Arial"/>
              </a:rPr>
              <a:t>ASP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  <a:ea typeface="Arial"/>
              </a:rPr>
              <a:t> - MS Visual Basic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r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  <a:ea typeface="Arial"/>
              </a:rPr>
              <a:t> Vb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  <a:ea typeface="Arial"/>
              </a:rPr>
              <a:t>ASP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  <a:ea typeface="Arial"/>
              </a:rPr>
              <a:t>NET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  <a:ea typeface="Arial"/>
              </a:rPr>
              <a:t> - C#, Visual Basic .NET, Vbscript .NE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r any compatible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  <a:ea typeface="Arial"/>
              </a:rPr>
              <a:t>.NET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  <a:ea typeface="Arial"/>
              </a:rPr>
              <a:t>JSP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  <a:ea typeface="Arial"/>
              </a:rPr>
              <a:t> – Ja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  <a:ea typeface="Arial"/>
              </a:rPr>
              <a:t>PHP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  <a:ea typeface="Arial"/>
              </a:rPr>
              <a:t> – PH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  <a:ea typeface="Arial"/>
              </a:rPr>
              <a:t>PSP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  <a:ea typeface="Arial"/>
              </a:rPr>
              <a:t> – Pyth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7"/>
          <p:cNvSpPr/>
          <p:nvPr/>
        </p:nvSpPr>
        <p:spPr>
          <a:xfrm>
            <a:off x="2286000" y="4343400"/>
            <a:ext cx="6629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c00000"/>
                </a:solidFill>
                <a:latin typeface="Arial"/>
              </a:rPr>
              <a:t>ASP, ASP.NET, JSP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,</a:t>
            </a:r>
            <a:r>
              <a:rPr b="0" lang="ro-RO" sz="2400" spc="-1" strike="noStrike">
                <a:solidFill>
                  <a:srgbClr val="c00000"/>
                </a:solidFill>
                <a:latin typeface="Arial"/>
              </a:rPr>
              <a:t> PSP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:              </a:t>
            </a:r>
            <a:r>
              <a:rPr b="0" lang="ro-RO" sz="2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ro-RO" sz="2400" spc="-1" strike="noStrike">
                <a:solidFill>
                  <a:srgbClr val="c00000"/>
                </a:solidFill>
                <a:latin typeface="Arial"/>
              </a:rPr>
              <a:t>&lt;% - - - %&gt;</a:t>
            </a:r>
            <a:r>
              <a:rPr b="0" lang="ro-RO" sz="2400" spc="-1" strike="noStrike">
                <a:solidFill>
                  <a:srgbClr val="c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c00000"/>
                </a:solidFill>
                <a:latin typeface="Arial"/>
              </a:rPr>
              <a:t> </a:t>
            </a:r>
            <a:r>
              <a:rPr b="0" lang="ro-RO" sz="2400" spc="-1" strike="noStrike">
                <a:solidFill>
                  <a:srgbClr val="c00000"/>
                </a:solidFill>
                <a:latin typeface="Arial"/>
              </a:rPr>
              <a:t>PHP 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      </a:t>
            </a:r>
            <a:r>
              <a:rPr b="0" lang="ro-RO" sz="2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ro-RO" sz="2400" spc="-1" strike="noStrike">
                <a:solidFill>
                  <a:srgbClr val="c00000"/>
                </a:solidFill>
                <a:latin typeface="Arial"/>
              </a:rPr>
              <a:t>&lt;?php - - - ?&gt;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, optionally</a:t>
            </a:r>
            <a:r>
              <a:rPr b="0" lang="ro-RO" sz="2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ro-RO" sz="2400" spc="-1" strike="noStrike">
                <a:solidFill>
                  <a:srgbClr val="c00000"/>
                </a:solidFill>
                <a:latin typeface="Arial"/>
              </a:rPr>
              <a:t>&lt;% - - -%&gt;</a:t>
            </a:r>
            <a:r>
              <a:rPr b="0" lang="ro-RO" sz="2400" spc="-1" strike="noStrike">
                <a:solidFill>
                  <a:srgbClr val="c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c00000"/>
                </a:solidFill>
                <a:latin typeface="Arial"/>
              </a:rPr>
              <a:t> </a:t>
            </a:r>
            <a:r>
              <a:rPr b="0" lang="ro-RO" sz="2400" spc="-1" strike="noStrike">
                <a:solidFill>
                  <a:srgbClr val="c00000"/>
                </a:solidFill>
                <a:latin typeface="Arial"/>
              </a:rPr>
              <a:t>ASP.NET compatible XML: </a:t>
            </a:r>
            <a:r>
              <a:rPr b="1" lang="ro-RO" sz="2400" spc="-1" strike="noStrike">
                <a:solidFill>
                  <a:srgbClr val="c00000"/>
                </a:solidFill>
                <a:latin typeface="Arial"/>
              </a:rPr>
              <a:t>&lt;asp:nume - - - /&gt;</a:t>
            </a:r>
            <a:r>
              <a:rPr b="0" lang="ro-RO" sz="2400" spc="-1" strike="noStrike">
                <a:solidFill>
                  <a:srgbClr val="c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c00000"/>
                </a:solidFill>
                <a:latin typeface="Arial"/>
              </a:rPr>
              <a:t> </a:t>
            </a:r>
            <a:r>
              <a:rPr b="0" lang="ro-RO" sz="2400" spc="-1" strike="noStrike">
                <a:solidFill>
                  <a:srgbClr val="c00000"/>
                </a:solidFill>
                <a:latin typeface="Arial"/>
              </a:rPr>
              <a:t>JSP 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         compatible</a:t>
            </a:r>
            <a:r>
              <a:rPr b="0" lang="ro-RO" sz="2400" spc="-1" strike="noStrike">
                <a:solidFill>
                  <a:srgbClr val="c00000"/>
                </a:solidFill>
                <a:latin typeface="Arial"/>
              </a:rPr>
              <a:t> XML: </a:t>
            </a:r>
            <a:r>
              <a:rPr b="1" lang="ro-RO" sz="2400" spc="-1" strike="noStrike">
                <a:solidFill>
                  <a:srgbClr val="c00000"/>
                </a:solidFill>
                <a:latin typeface="Arial"/>
              </a:rPr>
              <a:t>&lt;jsp:nume - - - /&gt;</a:t>
            </a:r>
            <a:r>
              <a:rPr b="0" lang="ro-RO" sz="2400" spc="-1" strike="noStrike">
                <a:solidFill>
                  <a:srgbClr val="c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Date Placeholder 3"/>
          <p:cNvSpPr/>
          <p:nvPr/>
        </p:nvSpPr>
        <p:spPr>
          <a:xfrm>
            <a:off x="0" y="6492960"/>
            <a:ext cx="914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100D2-C795-40A3-94E5-BBA8ED32A91E}" type="datetime">
              <a:rPr b="0" lang="ro-RO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Slide Number Placeholder 4"/>
          <p:cNvSpPr/>
          <p:nvPr/>
        </p:nvSpPr>
        <p:spPr>
          <a:xfrm>
            <a:off x="701028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oian Fl. WebProgr. </a:t>
            </a:r>
            <a:fld id="{ADAFCCEE-30E3-4DC4-AC15-4C62ACFA2E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/XX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2"/>
          <p:cNvSpPr/>
          <p:nvPr/>
        </p:nvSpPr>
        <p:spPr>
          <a:xfrm>
            <a:off x="6384960" y="4608360"/>
            <a:ext cx="1235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4"/>
          <p:cNvSpPr/>
          <p:nvPr/>
        </p:nvSpPr>
        <p:spPr>
          <a:xfrm>
            <a:off x="2590920" y="1905120"/>
            <a:ext cx="3809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Exec.aspx (1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6"/>
          <p:cNvSpPr/>
          <p:nvPr/>
        </p:nvSpPr>
        <p:spPr>
          <a:xfrm>
            <a:off x="0" y="533520"/>
            <a:ext cx="91440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&lt;%@ Page Language="C#" %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&lt;!DOCTYPE html PUBLIC "-//W3C//DTD XHTML 1.1//EN" "http://www.w3.org/TR/xhtml11/DTD/xhtml11.dtd"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&lt;script runat="server"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void runExec(Object sender, EventArgs e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tring s = sir.Tex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int n1 = int.Parse(nr1.Text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int n2 = int.Parse(nr2.Text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ir.Text = 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nr1.Text = n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nr2.Text = n2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upcase.Text = s.ToUpper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uma.Text = (n1 + n2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&lt;/script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Date Placeholder 3"/>
          <p:cNvSpPr/>
          <p:nvPr/>
        </p:nvSpPr>
        <p:spPr>
          <a:xfrm>
            <a:off x="0" y="6492960"/>
            <a:ext cx="914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611C6-3206-44A2-B6E2-5D4BD6724D6E}" type="datetime">
              <a:rPr b="0" lang="ro-RO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lide Number Placeholder 4"/>
          <p:cNvSpPr/>
          <p:nvPr/>
        </p:nvSpPr>
        <p:spPr>
          <a:xfrm>
            <a:off x="701028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oian Fl. WebProgr. </a:t>
            </a:r>
            <a:fld id="{33C5CFE0-2A0D-4315-95DF-848A698255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/XX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2"/>
          <p:cNvSpPr/>
          <p:nvPr/>
        </p:nvSpPr>
        <p:spPr>
          <a:xfrm>
            <a:off x="6384960" y="4608360"/>
            <a:ext cx="1235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2590920" y="1905120"/>
            <a:ext cx="3809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5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Exec.aspx(2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6"/>
          <p:cNvSpPr/>
          <p:nvPr/>
        </p:nvSpPr>
        <p:spPr>
          <a:xfrm>
            <a:off x="228600" y="533520"/>
            <a:ext cx="853452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&lt;html xmlns="http://www.w3.org/1999/xhtml" 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&lt;head runat="server"&gt;&lt;title&gt;Exemplu ASP.NET&lt;/title&gt;&lt;/hea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&lt;bod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&lt;form id="form1" runat="server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&lt;div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Sir:   &lt;asp:TextBox id="sir" runat="server" size="1" value=""/&gt;  =&amp;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&lt;label id="upcase"&gt;&lt;/labe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&lt;/div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&lt;div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Suma: &lt;asp:TextBox id="nr1" runat="server" size="1" value="0"/&gt;  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&lt;asp:TextBox id="nr2" runat="server" size="1" value="0"&gt;    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&lt;label id="suma"&gt;0&lt;/labe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&lt;/div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&lt;asp:Button text="Exec" runat="server" OnClick="runExec"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&lt;/form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&lt;/bod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&lt;/htm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Date Placeholder 3"/>
          <p:cNvSpPr/>
          <p:nvPr/>
        </p:nvSpPr>
        <p:spPr>
          <a:xfrm>
            <a:off x="0" y="6492960"/>
            <a:ext cx="914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66772-BE4D-4C2E-974B-DDD15FAD3EC1}" type="datetime">
              <a:rPr b="0" lang="ro-RO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lide Number Placeholder 4"/>
          <p:cNvSpPr/>
          <p:nvPr/>
        </p:nvSpPr>
        <p:spPr>
          <a:xfrm>
            <a:off x="701028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oian Fl. WebProgr. </a:t>
            </a:r>
            <a:fld id="{70C35FDD-8188-4D14-81FA-ECA3F857A4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/XX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2"/>
          <p:cNvSpPr/>
          <p:nvPr/>
        </p:nvSpPr>
        <p:spPr>
          <a:xfrm>
            <a:off x="6384960" y="4608360"/>
            <a:ext cx="1235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4"/>
          <p:cNvSpPr/>
          <p:nvPr/>
        </p:nvSpPr>
        <p:spPr>
          <a:xfrm>
            <a:off x="2590920" y="1905120"/>
            <a:ext cx="3809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5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Exec.js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6"/>
          <p:cNvSpPr/>
          <p:nvPr/>
        </p:nvSpPr>
        <p:spPr>
          <a:xfrm>
            <a:off x="152280" y="457200"/>
            <a:ext cx="899172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&lt;!DOCTYPE html PUBLIC "-//W3C//DTD XHTML 1.1//E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"http://www.w3.org/TR/xhtml11/DTD/xhtml11.dtd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&lt;html xmlns="http://www.w3.org/1999/xhtml" 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&lt;head&gt;&lt;title&gt;Exemplu JSP&lt;/title&gt;&lt;/hea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&lt;body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&lt;%   String sir = request.getParameter("sir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int nr1 = Integer.parseInt(request.getParameter("nr1"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int nr2 = Integer.parseInt(request.getParameter("nr2"));    %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&lt;form action="/Exec.jsp" method="get" 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&lt;div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Sir:  &lt;input type="text" name="sir" size="1" value="&lt;%=sir%&gt;"&gt;  =&amp;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&lt;label id="upcase"&gt;&lt;%=sir.toUpperCase()%&gt;&lt;/label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&lt;/div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&lt;div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Suma:  &lt;input type="text" name="nr1" size="1" value="&lt;%=nr1%&gt;"&gt;   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&lt;input type="text" name="nr2" size="1" value="&lt;%=nr2%&gt;"&gt;   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&lt;label id="suma"&gt;&lt;%=(nr1 + nr2)%&gt;&lt;/label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&lt;/div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&lt;input type=submit value= "Exec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&lt;/form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&lt;/body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&lt;/html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Date Placeholder 3"/>
          <p:cNvSpPr/>
          <p:nvPr/>
        </p:nvSpPr>
        <p:spPr>
          <a:xfrm>
            <a:off x="0" y="6492960"/>
            <a:ext cx="914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88DCE-69CA-4940-893B-F4BFD0438B6B}" type="datetime">
              <a:rPr b="0" lang="ro-RO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lide Number Placeholder 4"/>
          <p:cNvSpPr/>
          <p:nvPr/>
        </p:nvSpPr>
        <p:spPr>
          <a:xfrm>
            <a:off x="701028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oian Fl. WebProgr. </a:t>
            </a:r>
            <a:fld id="{42C20031-5B97-4952-B164-0C5A736BF3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/XX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2"/>
          <p:cNvSpPr/>
          <p:nvPr/>
        </p:nvSpPr>
        <p:spPr>
          <a:xfrm>
            <a:off x="6384960" y="4608360"/>
            <a:ext cx="1235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2590920" y="1905120"/>
            <a:ext cx="3809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5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Exec.ph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7"/>
          <p:cNvSpPr/>
          <p:nvPr/>
        </p:nvSpPr>
        <p:spPr>
          <a:xfrm>
            <a:off x="0" y="380880"/>
            <a:ext cx="914400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&lt;!DOCTYPE html PUBLIC "-//W3C//DTD XHTML 1.1//EN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"http://www.w3.org/TR/xhtml11/DTD/xhtml11.dtd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&lt;html xmlns="http://www.w3.org/1999/xhtml" 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&lt;head&gt;&lt;title&gt;Exemplu PHP&lt;/title&gt;&lt;/head&gt;  &lt;body&gt;    &lt;?ph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$sir = $_GET['sir'];       $nr1 = $_GET['nr1'];       $nr2 = $_GET['nr2'];     ?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&lt;form action="/Exec.php" method="get" 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&lt;div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Sir:&lt;input type="text" name="sir" size="1" value="&lt;?php echo $sir; ?&gt;"&gt;  =&amp;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&lt;label id="upcase"&gt;&lt;?php echo strtoupper($sir); ?&gt;&lt;/labe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&lt;/div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&lt;div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Suma: &lt;input type="text" name="nr1" size="1" value="&lt;?php echo $nr1; ?&gt;"&gt;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&lt;input type="text" name="nr2" size="1" value="&lt;?php echo $nr2; ?&gt;"&gt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    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&lt;label id="suma"&gt;&lt;?php echo ($nr1 + $nr2); ?&gt;&lt;/labe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&lt;/div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&lt;input type=submit value= "Exec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&lt;/form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&lt;/bod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&lt;/htm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Date Placeholder 3"/>
          <p:cNvSpPr/>
          <p:nvPr/>
        </p:nvSpPr>
        <p:spPr>
          <a:xfrm>
            <a:off x="0" y="6492960"/>
            <a:ext cx="914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558EC-C7AC-4844-B882-90325C322EB2}" type="datetime">
              <a:rPr b="0" lang="ro-RO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4"/>
          <p:cNvSpPr/>
          <p:nvPr/>
        </p:nvSpPr>
        <p:spPr>
          <a:xfrm>
            <a:off x="701028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oian Fl. WebProgr. </a:t>
            </a:r>
            <a:fld id="{D29A99ED-27D1-44EB-8611-0A6E49D01D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/XX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2"/>
          <p:cNvSpPr/>
          <p:nvPr/>
        </p:nvSpPr>
        <p:spPr>
          <a:xfrm>
            <a:off x="6384960" y="4608360"/>
            <a:ext cx="1235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4"/>
          <p:cNvSpPr/>
          <p:nvPr/>
        </p:nvSpPr>
        <p:spPr>
          <a:xfrm>
            <a:off x="2590920" y="1905120"/>
            <a:ext cx="3809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5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Exec.ps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6"/>
          <p:cNvSpPr/>
          <p:nvPr/>
        </p:nvSpPr>
        <p:spPr>
          <a:xfrm>
            <a:off x="0" y="304920"/>
            <a:ext cx="9144000" cy="68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&lt;!DOCTYPE html PUBLIC "-//W3C//DTD XHTML 1.1//EN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"http://www.w3.org/TR/xhtml11/DTD/xhtml11.dtd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&lt;html xmlns="http://www.w3.org/1999/xhtml" 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&lt;head&gt;&lt;title&gt;Exemplu PSP&lt;/title&gt;&lt;/head&gt;  &lt;body&gt;    &lt;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sir = form["sir"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nr1 = int(form["nr1"]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nr2 = int(form["nr2"])    %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&lt;form action="/psp/Exec.psp" method="get" 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&lt;div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Sir: &lt;input type="text" name="sir" size="1" value="&lt;%=sir%&gt;"&gt;   =&amp;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&lt;label id="upcase"&gt;&lt;%=sir.upper()%&gt;&lt;/labe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&lt;/div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&lt;div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Suma:&lt;input type="text" name="nr1" size="1" value="&lt;%=str(nr1)%&gt;"&gt;   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&lt;input type="text" name="nr2" size="1" value="&lt;%=str(nr2)%&gt;"&gt;    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&lt;label id="suma"&gt;&lt;%=str(nr1 + nr2)%&gt;&lt;/labe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&lt;/div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&lt;input type=submit value= "Exec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&lt;/form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&lt;/bod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&lt;/htm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Date Placeholder 3"/>
          <p:cNvSpPr/>
          <p:nvPr/>
        </p:nvSpPr>
        <p:spPr>
          <a:xfrm>
            <a:off x="0" y="6492960"/>
            <a:ext cx="914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D9134-8D63-4F26-B620-B6C4971460D0}" type="datetime">
              <a:rPr b="0" lang="ro-RO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4"/>
          <p:cNvSpPr/>
          <p:nvPr/>
        </p:nvSpPr>
        <p:spPr>
          <a:xfrm>
            <a:off x="701028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oian Fl. WebProgr. </a:t>
            </a:r>
            <a:fld id="{22DD97F7-A329-4434-A9F6-208B168F2E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/XX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2"/>
          <p:cNvSpPr/>
          <p:nvPr/>
        </p:nvSpPr>
        <p:spPr>
          <a:xfrm>
            <a:off x="6384960" y="4608360"/>
            <a:ext cx="1235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4"/>
          <p:cNvSpPr/>
          <p:nvPr/>
        </p:nvSpPr>
        <p:spPr>
          <a:xfrm>
            <a:off x="2590920" y="1905120"/>
            <a:ext cx="3809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5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TITL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2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9" descr="questionmark.jpg"/>
          <p:cNvPicPr/>
          <p:nvPr/>
        </p:nvPicPr>
        <p:blipFill>
          <a:blip r:embed="rId1"/>
          <a:stretch/>
        </p:blipFill>
        <p:spPr>
          <a:xfrm>
            <a:off x="1828800" y="685800"/>
            <a:ext cx="556272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Date Placeholder 3"/>
          <p:cNvSpPr/>
          <p:nvPr/>
        </p:nvSpPr>
        <p:spPr>
          <a:xfrm>
            <a:off x="0" y="6492960"/>
            <a:ext cx="914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E35B8-198E-4DE7-B8C7-CF68B5BED097}" type="datetime">
              <a:rPr b="0" lang="ro-RO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Slide Number Placeholder 4"/>
          <p:cNvSpPr/>
          <p:nvPr/>
        </p:nvSpPr>
        <p:spPr>
          <a:xfrm>
            <a:off x="701028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oian Fl. WebProgr. </a:t>
            </a:r>
            <a:fld id="{4E11F00F-B6C8-4017-84BB-2425472D88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/XX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6384960" y="4608360"/>
            <a:ext cx="1235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0" y="380880"/>
            <a:ext cx="91440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ng execution rights so that Web server to run it with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exec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location of the file must b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o just right place (directory)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CGI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 must ca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ad environment variables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ing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tem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 like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getenv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 HTTP method is not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GET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n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CGI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ust to read the file stdin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CGI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st to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e into std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times is mandatory that it name respect a syntax (i.e.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cg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 else)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CGI – Common Gateway Interface - standar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Date Placeholder 3"/>
          <p:cNvSpPr/>
          <p:nvPr/>
        </p:nvSpPr>
        <p:spPr>
          <a:xfrm>
            <a:off x="0" y="6492960"/>
            <a:ext cx="914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B088B-B90F-4AC9-93CE-EF33199B956F}" type="datetime">
              <a:rPr b="0" lang="ro-RO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lide Number Placeholder 4"/>
          <p:cNvSpPr/>
          <p:nvPr/>
        </p:nvSpPr>
        <p:spPr>
          <a:xfrm>
            <a:off x="701028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oian Fl. WebProgr. </a:t>
            </a:r>
            <a:fld id="{29E9DF8B-BD03-4BD1-B466-F3A32F27F1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/XX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2"/>
          <p:cNvSpPr/>
          <p:nvPr/>
        </p:nvSpPr>
        <p:spPr>
          <a:xfrm>
            <a:off x="6384960" y="4608360"/>
            <a:ext cx="1235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4"/>
          <p:cNvSpPr/>
          <p:nvPr/>
        </p:nvSpPr>
        <p:spPr>
          <a:xfrm>
            <a:off x="2590920" y="1905120"/>
            <a:ext cx="3809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5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TITL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Date Placeholder 3"/>
          <p:cNvSpPr/>
          <p:nvPr/>
        </p:nvSpPr>
        <p:spPr>
          <a:xfrm>
            <a:off x="0" y="6492960"/>
            <a:ext cx="914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09EFB-AEC6-4FF6-B4D5-7B53CA681BC4}" type="datetime">
              <a:rPr b="0" lang="ro-RO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lide Number Placeholder 4"/>
          <p:cNvSpPr/>
          <p:nvPr/>
        </p:nvSpPr>
        <p:spPr>
          <a:xfrm>
            <a:off x="701028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oian Fl. WebProgr. </a:t>
            </a:r>
            <a:fld id="{895048F0-057D-4F08-8E3A-DF86D6FB36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/XX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2"/>
          <p:cNvSpPr/>
          <p:nvPr/>
        </p:nvSpPr>
        <p:spPr>
          <a:xfrm>
            <a:off x="6384960" y="4608360"/>
            <a:ext cx="1235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2590920" y="1905120"/>
            <a:ext cx="3809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5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TITL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Date Placeholder 3"/>
          <p:cNvSpPr/>
          <p:nvPr/>
        </p:nvSpPr>
        <p:spPr>
          <a:xfrm>
            <a:off x="0" y="6492960"/>
            <a:ext cx="914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B9A8C-50A9-4042-89D6-F029AA742425}" type="datetime">
              <a:rPr b="0" lang="ro-RO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lide Number Placeholder 4"/>
          <p:cNvSpPr/>
          <p:nvPr/>
        </p:nvSpPr>
        <p:spPr>
          <a:xfrm>
            <a:off x="701028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oian Fl. WebProgr. </a:t>
            </a:r>
            <a:fld id="{79B05646-E935-46C1-9F9C-198CCB2F8D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/XX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2"/>
          <p:cNvSpPr/>
          <p:nvPr/>
        </p:nvSpPr>
        <p:spPr>
          <a:xfrm>
            <a:off x="6384960" y="4608360"/>
            <a:ext cx="1235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4"/>
          <p:cNvSpPr/>
          <p:nvPr/>
        </p:nvSpPr>
        <p:spPr>
          <a:xfrm>
            <a:off x="0" y="380880"/>
            <a:ext cx="9144000" cy="604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  <a:ea typeface="Aharoni"/>
              </a:rPr>
              <a:t>An executable file in the HTTP server CGI directories program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  <a:ea typeface="Aharoni"/>
              </a:rPr>
              <a:t>Settings in </a:t>
            </a:r>
            <a:r>
              <a:rPr b="1" lang="en-US" sz="1900" spc="-1" strike="noStrike" u="sng">
                <a:solidFill>
                  <a:srgbClr val="000000"/>
                </a:solidFill>
                <a:uFillTx/>
                <a:latin typeface="Calibri"/>
                <a:ea typeface="Aharoni"/>
              </a:rPr>
              <a:t>httpd.conf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  <a:ea typeface="Aharoni"/>
              </a:rPr>
              <a:t>Default directory: </a:t>
            </a:r>
            <a:r>
              <a:rPr b="1" lang="en-US" sz="1900" spc="-1" strike="noStrike">
                <a:solidFill>
                  <a:srgbClr val="000000"/>
                </a:solidFill>
                <a:latin typeface="Calibri"/>
                <a:ea typeface="Aharoni"/>
              </a:rPr>
              <a:t>/cgi-bin/   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  <a:ea typeface="Aharoni"/>
              </a:rPr>
              <a:t>can be settings like: </a:t>
            </a:r>
            <a:r>
              <a:rPr b="1" lang="en-US" sz="1900" spc="-1" strike="noStrike">
                <a:solidFill>
                  <a:srgbClr val="000000"/>
                </a:solidFill>
                <a:latin typeface="Calibri"/>
                <a:ea typeface="Aharoni"/>
              </a:rPr>
              <a:t>ScriptAlias  /cgi-bin  "c:/xampp/cgi-bin/"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  <a:ea typeface="Aharoni"/>
              </a:rPr>
              <a:t>Others directories outside of the httpd space, if the root setting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alibri"/>
                <a:ea typeface="Aharoni"/>
              </a:rPr>
              <a:t>&lt;Directory /home/scs/*/*/*/public_html&gt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alibri"/>
                <a:ea typeface="Aharoni"/>
              </a:rPr>
              <a:t>    </a:t>
            </a:r>
            <a:r>
              <a:rPr b="1" lang="en-US" sz="1900" spc="-1" strike="noStrike">
                <a:solidFill>
                  <a:srgbClr val="000000"/>
                </a:solidFill>
                <a:latin typeface="Calibri"/>
                <a:ea typeface="Aharoni"/>
              </a:rPr>
              <a:t>Options Indexes FollowSymLinks </a:t>
            </a:r>
            <a:r>
              <a:rPr b="1" lang="en-US" sz="1900" spc="-1" strike="noStrike" u="sng">
                <a:solidFill>
                  <a:srgbClr val="000000"/>
                </a:solidFill>
                <a:uFillTx/>
                <a:latin typeface="Calibri"/>
                <a:ea typeface="Aharoni"/>
              </a:rPr>
              <a:t>ExecCGI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alibri"/>
                <a:ea typeface="Aharoni"/>
              </a:rPr>
              <a:t>    </a:t>
            </a:r>
            <a:r>
              <a:rPr b="1" lang="en-US" sz="1900" spc="-1" strike="noStrike">
                <a:solidFill>
                  <a:srgbClr val="000000"/>
                </a:solidFill>
                <a:latin typeface="Calibri"/>
                <a:ea typeface="Aharoni"/>
              </a:rPr>
              <a:t>AllowOverride Non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alibri"/>
                <a:ea typeface="Aharoni"/>
              </a:rPr>
              <a:t>&lt;/Directory&gt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  <a:ea typeface="Aharoni"/>
              </a:rPr>
              <a:t>Can specify any type of executable file (default, all executables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alibri"/>
                <a:ea typeface="Aharoni"/>
              </a:rPr>
              <a:t>AddHandler cgi-script .cgi .p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  <a:ea typeface="Aharoni"/>
              </a:rPr>
              <a:t>The web server load and run (exec) the CGI if it appear in UR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  <a:ea typeface="Aharoni"/>
              </a:rPr>
              <a:t>After  load, a lot of environment variables are setting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  <a:ea typeface="Aharoni"/>
              </a:rPr>
              <a:t>Request GET =&gt;                                    QUERY_STRING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  <a:ea typeface="Aharoni"/>
              </a:rPr>
              <a:t>Request POST, PUT, DELETE etc. =&gt;  stdi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  <a:ea typeface="Aharoni"/>
              </a:rPr>
              <a:t>Response: Standard HTTP response lin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5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CGI – Common Gateway Interface - configu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Date Placeholder 3"/>
          <p:cNvSpPr/>
          <p:nvPr/>
        </p:nvSpPr>
        <p:spPr>
          <a:xfrm>
            <a:off x="0" y="6492960"/>
            <a:ext cx="914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3938B-EEA3-4BCA-91A4-CB18E451322B}" type="datetime">
              <a:rPr b="0" lang="ro-RO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Slide Number Placeholder 4"/>
          <p:cNvSpPr/>
          <p:nvPr/>
        </p:nvSpPr>
        <p:spPr>
          <a:xfrm>
            <a:off x="701028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oian Fl. WebProgr. </a:t>
            </a:r>
            <a:fld id="{A3CFCA44-2F36-4EB5-95C9-6D17D664B7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/XX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2"/>
          <p:cNvSpPr/>
          <p:nvPr/>
        </p:nvSpPr>
        <p:spPr>
          <a:xfrm>
            <a:off x="6384960" y="4608360"/>
            <a:ext cx="1235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2590920" y="1905120"/>
            <a:ext cx="3809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CGI environment variabl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152280" y="762120"/>
          <a:ext cx="8991720" cy="5029200"/>
        </p:xfrm>
        <a:graphic>
          <a:graphicData uri="http://schemas.openxmlformats.org/drawingml/2006/table">
            <a:tbl>
              <a:tblPr/>
              <a:tblGrid>
                <a:gridCol w="2614680"/>
                <a:gridCol w="6377040"/>
              </a:tblGrid>
              <a:tr h="3355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ERVER_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Numele sau adresa IP a server-ului Web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5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ERVER_SOFTWAR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oftware-ul server-ului Web (IIS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, </a:t>
                      </a:r>
                      <a:r>
                        <a:rPr b="0" lang="ro-RO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pach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etc.</a:t>
                      </a:r>
                      <a:r>
                        <a:rPr b="0" lang="ro-RO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5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ERVER_PROTOCO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rotocolul de comunicar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5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ERVER_POR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ortul de aşteptar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5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EQUEST_METHO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Metoda de cerer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: G</a:t>
                      </a:r>
                      <a:r>
                        <a:rPr b="0" lang="ro-RO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ET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, </a:t>
                      </a:r>
                      <a:r>
                        <a:rPr b="0" lang="ro-RO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POST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, PUT, DELETE etc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5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CRIPT_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alea şi numele CGI (de ex. /cgi-bin/TestCgi.cgi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5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OCUMENT_ROO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ădăcina server-ului Web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5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QUERY_STRIN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Şirul de cerere din URL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,</a:t>
                      </a:r>
                      <a:r>
                        <a:rPr b="0" lang="ro-RO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metoda GE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5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EMOTE-HOS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Numele maşinii clien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5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EMOTE_ADD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dresa IP a maşinii clien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5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EMOTE_USE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Numele utilizatorului clien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5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ONTENT_TYP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ipul MIME al cererii (de exemplu text/html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5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ONTENT_LENGT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Lungimea (în octeţi)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</a:t>
                      </a:r>
                      <a:r>
                        <a:rPr b="0" lang="ro-RO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corpul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ui</a:t>
                      </a:r>
                      <a:r>
                        <a:rPr b="0" lang="ro-RO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cererii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5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HTTP_USER_AGEN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Numele browser-ului clien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5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HTTP_REFFERE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URL-ul documentului accesat de client înainte de CGI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Date Placeholder 3"/>
          <p:cNvSpPr/>
          <p:nvPr/>
        </p:nvSpPr>
        <p:spPr>
          <a:xfrm>
            <a:off x="0" y="6492960"/>
            <a:ext cx="914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4DCD4-453F-47A4-A982-DAAF25C41278}" type="datetime">
              <a:rPr b="0" lang="ro-RO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Slide Number Placeholder 4"/>
          <p:cNvSpPr/>
          <p:nvPr/>
        </p:nvSpPr>
        <p:spPr>
          <a:xfrm>
            <a:off x="701028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oian Fl. WebProgr. </a:t>
            </a:r>
            <a:fld id="{C6A95CD9-2B89-4CF0-8565-A4B75FF2E7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/XX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"/>
          <p:cNvSpPr/>
          <p:nvPr/>
        </p:nvSpPr>
        <p:spPr>
          <a:xfrm>
            <a:off x="6384960" y="4608360"/>
            <a:ext cx="1235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4"/>
          <p:cNvSpPr/>
          <p:nvPr/>
        </p:nvSpPr>
        <p:spPr>
          <a:xfrm>
            <a:off x="2590920" y="1905120"/>
            <a:ext cx="3809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5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Exemplu: Exec partea server; interfata, HTM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7"/>
          <p:cNvSpPr/>
          <p:nvPr/>
        </p:nvSpPr>
        <p:spPr>
          <a:xfrm>
            <a:off x="152280" y="304920"/>
            <a:ext cx="5410440" cy="63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700" spc="-1" strike="noStrike">
                <a:solidFill>
                  <a:srgbClr val="000000"/>
                </a:solidFill>
                <a:latin typeface="Calibri"/>
              </a:rPr>
              <a:t>&lt;!DOCTYPE html PUBLIC "-//W3C//DTD XHTML 1.1//EN"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7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o-RO" sz="1700" spc="-1" strike="noStrike">
                <a:solidFill>
                  <a:srgbClr val="000000"/>
                </a:solidFill>
                <a:latin typeface="Calibri"/>
              </a:rPr>
              <a:t>"http://www.w3.org/TR/xhtml11/DTD/xhtml11.dtd"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700" spc="-1" strike="noStrike">
                <a:solidFill>
                  <a:srgbClr val="000000"/>
                </a:solidFill>
                <a:latin typeface="Calibri"/>
              </a:rPr>
              <a:t>&lt;html xmlns="http://www.w3.org/1999/xhtml" 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7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o-RO" sz="1700" spc="-1" strike="noStrike">
                <a:solidFill>
                  <a:srgbClr val="000000"/>
                </a:solidFill>
                <a:latin typeface="Calibri"/>
              </a:rPr>
              <a:t>&lt;head&gt;&lt;title&gt;Exemplu CGI&lt;/title&gt;&lt;/head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7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o-RO" sz="1700" spc="-1" strike="noStrike">
                <a:solidFill>
                  <a:srgbClr val="000000"/>
                </a:solidFill>
                <a:latin typeface="Calibri"/>
              </a:rPr>
              <a:t>&lt;body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7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o-RO" sz="1700" spc="-1" strike="noStrike">
                <a:solidFill>
                  <a:srgbClr val="000000"/>
                </a:solidFill>
                <a:latin typeface="Calibri"/>
              </a:rPr>
              <a:t>&lt;form action="</a:t>
            </a:r>
            <a:r>
              <a:rPr b="1" lang="ro-RO" sz="1700" spc="-1" strike="noStrike">
                <a:solidFill>
                  <a:srgbClr val="7030a0"/>
                </a:solidFill>
                <a:latin typeface="Calibri"/>
              </a:rPr>
              <a:t>/cgi-bin/Exec.exe</a:t>
            </a:r>
            <a:r>
              <a:rPr b="0" lang="ro-RO" sz="1700" spc="-1" strike="noStrike">
                <a:solidFill>
                  <a:srgbClr val="000000"/>
                </a:solidFill>
                <a:latin typeface="Calibri"/>
              </a:rPr>
              <a:t>" method="POST"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7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o-RO" sz="1700" spc="-1" strike="noStrike">
                <a:solidFill>
                  <a:srgbClr val="000000"/>
                </a:solidFill>
                <a:latin typeface="Calibri"/>
              </a:rPr>
              <a:t>&lt;div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7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o-RO" sz="1700" spc="-1" strike="noStrike">
                <a:solidFill>
                  <a:srgbClr val="000000"/>
                </a:solidFill>
                <a:latin typeface="Calibri"/>
              </a:rPr>
              <a:t>Sir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7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o-RO" sz="1700" spc="-1" strike="noStrike">
                <a:solidFill>
                  <a:srgbClr val="000000"/>
                </a:solidFill>
                <a:latin typeface="Calibri"/>
              </a:rPr>
              <a:t>&lt;input type="text" name="sir" size="1" value=""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7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o-RO" sz="1700" spc="-1" strike="noStrike">
                <a:solidFill>
                  <a:srgbClr val="000000"/>
                </a:solidFill>
                <a:latin typeface="Calibri"/>
              </a:rPr>
              <a:t>=&amp;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7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o-RO" sz="1700" spc="-1" strike="noStrike">
                <a:solidFill>
                  <a:srgbClr val="000000"/>
                </a:solidFill>
                <a:latin typeface="Calibri"/>
              </a:rPr>
              <a:t>&lt;label id="upcase"&gt;&lt;/label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7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o-RO" sz="1700" spc="-1" strike="noStrike">
                <a:solidFill>
                  <a:srgbClr val="000000"/>
                </a:solidFill>
                <a:latin typeface="Calibri"/>
              </a:rPr>
              <a:t>&lt;/div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7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o-RO" sz="1700" spc="-1" strike="noStrike">
                <a:solidFill>
                  <a:srgbClr val="000000"/>
                </a:solidFill>
                <a:latin typeface="Calibri"/>
              </a:rPr>
              <a:t>&lt;div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7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o-RO" sz="1700" spc="-1" strike="noStrike">
                <a:solidFill>
                  <a:srgbClr val="000000"/>
                </a:solidFill>
                <a:latin typeface="Calibri"/>
              </a:rPr>
              <a:t>Suma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7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o-RO" sz="1700" spc="-1" strike="noStrike">
                <a:solidFill>
                  <a:srgbClr val="000000"/>
                </a:solidFill>
                <a:latin typeface="Calibri"/>
              </a:rPr>
              <a:t>&lt;input type="text" name="nr1" size="1" value="0"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7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o-RO" sz="1700" spc="-1" strike="noStrike">
                <a:solidFill>
                  <a:srgbClr val="000000"/>
                </a:solidFill>
                <a:latin typeface="Calibri"/>
              </a:rPr>
              <a:t>+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7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o-RO" sz="1700" spc="-1" strike="noStrike">
                <a:solidFill>
                  <a:srgbClr val="000000"/>
                </a:solidFill>
                <a:latin typeface="Calibri"/>
              </a:rPr>
              <a:t>&lt;input type="text" name="nr2" size="1" value="0"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7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o-RO" sz="17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7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o-RO" sz="1700" spc="-1" strike="noStrike">
                <a:solidFill>
                  <a:srgbClr val="000000"/>
                </a:solidFill>
                <a:latin typeface="Calibri"/>
              </a:rPr>
              <a:t>&lt;label id="suma"&gt;0&lt;/label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7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o-RO" sz="1700" spc="-1" strike="noStrike">
                <a:solidFill>
                  <a:srgbClr val="000000"/>
                </a:solidFill>
                <a:latin typeface="Calibri"/>
              </a:rPr>
              <a:t>&lt;/div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7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o-RO" sz="1700" spc="-1" strike="noStrike">
                <a:solidFill>
                  <a:srgbClr val="000000"/>
                </a:solidFill>
                <a:latin typeface="Calibri"/>
              </a:rPr>
              <a:t>&lt;input type=submit value= "Exec"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7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o-RO" sz="1700" spc="-1" strike="noStrike">
                <a:solidFill>
                  <a:srgbClr val="000000"/>
                </a:solidFill>
                <a:latin typeface="Calibri"/>
              </a:rPr>
              <a:t>&lt;/form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7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o-RO" sz="1700" spc="-1" strike="noStrike">
                <a:solidFill>
                  <a:srgbClr val="000000"/>
                </a:solidFill>
                <a:latin typeface="Calibri"/>
              </a:rPr>
              <a:t>&lt;/body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700" spc="-1" strike="noStrike">
                <a:solidFill>
                  <a:srgbClr val="000000"/>
                </a:solidFill>
                <a:latin typeface="Calibri"/>
              </a:rPr>
              <a:t>&lt;/html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3" descr=""/>
          <p:cNvPicPr/>
          <p:nvPr/>
        </p:nvPicPr>
        <p:blipFill>
          <a:blip r:embed="rId1"/>
          <a:stretch/>
        </p:blipFill>
        <p:spPr>
          <a:xfrm>
            <a:off x="5029200" y="838080"/>
            <a:ext cx="406224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Date Placeholder 3"/>
          <p:cNvSpPr/>
          <p:nvPr/>
        </p:nvSpPr>
        <p:spPr>
          <a:xfrm>
            <a:off x="0" y="6492960"/>
            <a:ext cx="914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9600C-0B0C-4C0E-9F85-395C8B9A77CA}" type="datetime">
              <a:rPr b="0" lang="ro-RO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Slide Number Placeholder 4"/>
          <p:cNvSpPr/>
          <p:nvPr/>
        </p:nvSpPr>
        <p:spPr>
          <a:xfrm>
            <a:off x="701028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oian Fl. WebProgr. </a:t>
            </a:r>
            <a:fld id="{CD54F312-5B19-4F6F-9355-DDC267D7BD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/XX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2"/>
          <p:cNvSpPr/>
          <p:nvPr/>
        </p:nvSpPr>
        <p:spPr>
          <a:xfrm>
            <a:off x="6384960" y="4608360"/>
            <a:ext cx="1235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2590920" y="1905120"/>
            <a:ext cx="3809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5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Exemplu CGI in C (1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7"/>
          <p:cNvSpPr/>
          <p:nvPr/>
        </p:nvSpPr>
        <p:spPr>
          <a:xfrm>
            <a:off x="0" y="685800"/>
            <a:ext cx="89154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#include "stdafx.h"                                                                                                                          </a:t>
            </a:r>
            <a:r>
              <a:rPr b="1" lang="en-US" sz="1600" spc="-1" strike="noStrike">
                <a:solidFill>
                  <a:srgbClr val="7030a0"/>
                </a:solidFill>
                <a:latin typeface="Calibri"/>
              </a:rPr>
              <a:t>/cgi-bin/Exec.ex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#include &lt;stdlib.h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#include &lt;string.h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#include &lt;ctype.h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int _tmain(int argc, _TCHAR* argv[]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har *sir, *pn1, *pn2, linie[100], sIR[100]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int nr1, nr2, i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har f[] = "%s%s%s%s%s%s%s%s%s%s%s%d%s%d%s%d%s"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har h1[] = "&lt;!DOCTYPE html PUBLIC \"-//W3C//DTD XHTML 1.1//EN\"\"http://www.w3.org/TR/\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xhtml11/DTD/xhtml11.dtd\"&gt;&lt;html xmlns=\"http://www.w3.org/1999/xhtml\" &gt;&lt;head&gt;&lt;title&gt;"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har h2[] = "&lt;/title&gt;&lt;/head&gt;&lt;body&gt;&lt;form action=\""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har h3[] = "\" method=\""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har h4[] = "\"&gt;&lt;div&gt;Sir:&lt;input type=\"text\" name=\"sir\" size=\"1\" value=\""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har h5[] = "\"&gt;=&amp;gt;&lt;label id=\"upcase\"&gt;"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har h6[] = "&lt;/label&gt;&lt;/div&gt;&lt;div&gt;Suma:&lt;input type=\"text\" name=\"nr1\" size=\"1\" value=\""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har h7[] = "\"&gt;+&lt;input type=\"text\" name=\"nr2\" size=\"1\" value=\""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har h8[] = "\"&gt;=&lt;label id=\"suma\"&gt;"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har h9[] = "&lt;/label&gt;&lt;/div&gt;&lt;input type=submit value= \"Exec\"&gt;&lt;/form&gt;&lt;/body&gt;&lt;/html&gt;"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Date Placeholder 3"/>
          <p:cNvSpPr/>
          <p:nvPr/>
        </p:nvSpPr>
        <p:spPr>
          <a:xfrm>
            <a:off x="0" y="6492960"/>
            <a:ext cx="914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08480-BAF5-43A6-A0E6-AFCF49D94D86}" type="datetime">
              <a:rPr b="0" lang="ro-RO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Slide Number Placeholder 4"/>
          <p:cNvSpPr/>
          <p:nvPr/>
        </p:nvSpPr>
        <p:spPr>
          <a:xfrm>
            <a:off x="701028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oian Fl. WebProgr. </a:t>
            </a:r>
            <a:fld id="{3B7BE560-1EB1-4655-9429-26DF47B8A3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/XX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2"/>
          <p:cNvSpPr/>
          <p:nvPr/>
        </p:nvSpPr>
        <p:spPr>
          <a:xfrm>
            <a:off x="6384960" y="4608360"/>
            <a:ext cx="1235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4"/>
          <p:cNvSpPr/>
          <p:nvPr/>
        </p:nvSpPr>
        <p:spPr>
          <a:xfrm>
            <a:off x="2590920" y="1905120"/>
            <a:ext cx="3809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Exemplu CGI in C (2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6"/>
          <p:cNvSpPr/>
          <p:nvPr/>
        </p:nvSpPr>
        <p:spPr>
          <a:xfrm>
            <a:off x="0" y="609480"/>
            <a:ext cx="89154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f (strcmp(getenv("REQUEST_METHOD"), "GET") == 0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rcpy(linie, getenv("QUERY_STRING"));   // apel prin G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l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gets(linie, 100, stdin);                                // apel prin P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r = strstr(linie, "sir=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n1 = strstr(linie, "nr1=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n2 = strstr(linie, "nr2=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r1 = strlen(lini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r (i = 0; i &lt; nr1; i++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f (linie[i] == '&amp;') linie[i] = '\0';                   // Terminatorii stringurilor paramet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f (pn1 != NULL) nr1 = atoi(pn1+4); else nr1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f (pn2 != NULL) nr2 = atoi(pn2+4); else nr2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f (sir != NULL) sir += 4; else { sir = linie; linie[0] = '\0';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r (i = 0; sir[i]; sIR[i] = toupper(sir[i]), i++);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R[i] = '\0'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intf("Content-type: text/html\n\n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intf(f,h1,"Exemplu CGI C",h2,"/cgi-bin/Exec.exe",h3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GET",h4,sir,h5,sIR,h6,nr1,h7,nr2,h8,nr1+nr2,h9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Date Placeholder 3"/>
          <p:cNvSpPr/>
          <p:nvPr/>
        </p:nvSpPr>
        <p:spPr>
          <a:xfrm>
            <a:off x="0" y="6492960"/>
            <a:ext cx="914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1CA14-5E06-405A-AB90-BA7253C7C877}" type="datetime">
              <a:rPr b="0" lang="ro-RO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Slide Number Placeholder 4"/>
          <p:cNvSpPr/>
          <p:nvPr/>
        </p:nvSpPr>
        <p:spPr>
          <a:xfrm>
            <a:off x="701028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oian Fl. WebProgr. </a:t>
            </a:r>
            <a:fld id="{A2F797C7-CF0B-46C2-9B98-7E1B3213EA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/XX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2"/>
          <p:cNvSpPr/>
          <p:nvPr/>
        </p:nvSpPr>
        <p:spPr>
          <a:xfrm>
            <a:off x="6384960" y="4608360"/>
            <a:ext cx="1235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4"/>
          <p:cNvSpPr/>
          <p:nvPr/>
        </p:nvSpPr>
        <p:spPr>
          <a:xfrm>
            <a:off x="2590920" y="1905120"/>
            <a:ext cx="3809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5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Exemplu CGI in Pyth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6"/>
          <p:cNvSpPr/>
          <p:nvPr/>
        </p:nvSpPr>
        <p:spPr>
          <a:xfrm>
            <a:off x="914400" y="301680"/>
            <a:ext cx="7543800" cy="65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#!c:/Python26/python.exe                                                                              </a:t>
            </a:r>
            <a:r>
              <a:rPr b="1" lang="en-US" sz="1600" spc="-1" strike="noStrike">
                <a:solidFill>
                  <a:srgbClr val="7030a0"/>
                </a:solidFill>
                <a:latin typeface="Arial"/>
              </a:rPr>
              <a:t>/cgi-bin/Exec.p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import cg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 = cgi.FieldStorage(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ry: sir = par["sir"].val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except: sir = "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ry: nr1 = int(par["nr1"].valu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except: nr1 =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ry: nr2 = int(par["nr2"].valu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except: nr2 =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rint "Content-type: text/html\r\n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h = "&lt;!DOCTYPE html PUBLIC \"-//W3C//DTD XHTML 1.1//EN\"\"http://www.w3.org/TR/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html11/DTD/xhtml11.dtd\"&gt;&lt;html xmlns=\"http://www.w3.org/1999/xhtml\"&gt;&lt;head&gt;&lt;title&gt;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h += "Exemplu CGI Python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h += "&lt;/title&gt;&lt;/head&gt;&lt;body&gt;&lt;form action=\"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h += "/cgi-bin/Exec.py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h += "\" method=\"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h += "GET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h += "\"&gt;&lt;div&gt;Sir:&lt;input type=\"text\" name=\"sir\" size=\"1\" value=\"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h += s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h += "\"&gt;=&amp;gt;&lt;label id=\"upcase\"&gt;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h += sir.upper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h += "&lt;/label&gt;&lt;/div&gt;&lt;div&gt;Suma:&lt;input type=\"text\" name=\"nr1\" size=\"1\" value=\"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h += `nr1`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h += "\"&gt;+&lt;input type=\"text\" name=\"nr2\" size=\"1\" value=\"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h += `nr2`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h += "\"&gt;=&lt;label id=\"suma\"&gt;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h += `nr1 + nr2`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h += "&lt;/label&gt;&lt;/div&gt;&lt;input type=submit value= \"Exec\"&gt;&lt;/form&gt;&lt;/body&gt;&lt;/html&gt;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rint 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Date Placeholder 3"/>
          <p:cNvSpPr/>
          <p:nvPr/>
        </p:nvSpPr>
        <p:spPr>
          <a:xfrm>
            <a:off x="0" y="6492960"/>
            <a:ext cx="914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9AFC4-7B78-4AE0-BA13-41E59B829E0B}" type="datetime">
              <a:rPr b="0" lang="ro-RO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lide Number Placeholder 4"/>
          <p:cNvSpPr/>
          <p:nvPr/>
        </p:nvSpPr>
        <p:spPr>
          <a:xfrm>
            <a:off x="701028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oian Fl. WebProgr. </a:t>
            </a:r>
            <a:fld id="{CB30A521-4F77-43ED-BAE2-BBFB61C32B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/XX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2"/>
          <p:cNvSpPr/>
          <p:nvPr/>
        </p:nvSpPr>
        <p:spPr>
          <a:xfrm>
            <a:off x="6384960" y="4608360"/>
            <a:ext cx="1235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2590920" y="1905120"/>
            <a:ext cx="3809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Servlet+ JS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Object 7"/>
          <p:cNvGraphicFramePr/>
          <p:nvPr/>
        </p:nvGraphicFramePr>
        <p:xfrm>
          <a:off x="228600" y="914400"/>
          <a:ext cx="7391520" cy="186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914400"/>
                    <a:ext cx="7391520" cy="186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Object 9"/>
          <p:cNvGraphicFramePr/>
          <p:nvPr/>
        </p:nvGraphicFramePr>
        <p:xfrm>
          <a:off x="152280" y="3505320"/>
          <a:ext cx="8618760" cy="2286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8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280" y="3505320"/>
                    <a:ext cx="861876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6T05:05:29Z</dcterms:created>
  <dc:creator>florin</dc:creator>
  <dc:description/>
  <dc:language>en-US</dc:language>
  <cp:lastModifiedBy>florin</cp:lastModifiedBy>
  <dcterms:modified xsi:type="dcterms:W3CDTF">2011-03-16T12:35:32Z</dcterms:modified>
  <cp:revision>156</cp:revision>
  <dc:subject/>
  <dc:title>HTTP: prezentare generala</dc:title>
</cp:coreProperties>
</file>