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97C-961C-4A1C-84B5-44055772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C53-8552-468F-9B55-B81E0B8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3D1-5D41-4B54-8716-62ABF6DD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390-D6B3-4D95-A460-CD95FAD4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908-12AB-48CE-80EC-6272566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E51-9388-47E7-9CFC-B6A9C27B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EE2-717E-449D-BB34-22D2915E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BB4-4AD5-4E42-84B5-301F7024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4D3-B60B-4FD1-8BD1-AC96194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E22-9175-4A62-A754-A3B5CE5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B4A-6229-4B7E-9DDB-6ED8D31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3A3-30E7-451E-8B99-265F93E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775-29F8-41BE-8AF2-52555934C1A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BAC6-976B-47E8-BDAC-187FCAE1C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93B-5384-4C68-A6B2-C1ECA5F6164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150CAE0C-D210-4D8F-92C3-08D7F041B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 prezentare gener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 prezentare gener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59F-0AFF-44AD-BEA5-497BFA19FBA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. HTTP </a:t>
            </a:r>
            <a:fld id="{25773E45-6FED-43C5-9641-60D257DF6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JavaScript 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9907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ndow.onload = rot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magini = new Array("gb.jpg","biso.jpg","plib1.jpg","plib2.jpg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loc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otate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c = (loc + 1) % imagini.leng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"poze").src = imagini[loc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Timeout("rotate()",  100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DE72-0D3B-4A1A-8DB8-77C62CFDB5A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238880" y="6492960"/>
            <a:ext cx="190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A3D42507-B177-4227-8DA9-ADD534895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XM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8088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biblioteca SYSTEM "biblioteca.dtd“&gt;</a:t>
            </a:r>
            <a:r>
              <a:rPr b="1" lang="ro-RO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Valabil la DTD --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blioteca&gt;</a:t>
            </a:r>
            <a:r>
              <a:rPr b="1" lang="ro-RO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Valabil la DTD --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biblioteca xmlns:xsi="http://www.w3.org/2001/XMLSchema-instanc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si:noNamespaceSchemaLocation="biblioteca.xsd"--&gt;</a:t>
            </a:r>
            <a:r>
              <a:rPr b="1" lang="ro-RO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Valabil la XSD --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Biblioteca personala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Informatica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rte isbn="973-97535-5-8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u&gt;De la aritmetica la calculatoare&lt;/titl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&gt;Boian Florian&lt;/autor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rt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rte isbn="978-1-594-96-544-9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u&gt;AJAX in lectii de 10 minute&lt;/titlu&gt;&lt;autor&gt;Ballard Phill&lt;/autor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rt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Poezie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rte isbn="973-95660-2-2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u&gt;Poezii&lt;/titlu&gt;    &lt;autor&gt;Octavian Goga&lt;/autor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rt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&gt;Sanscrita veche&lt;/nu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meniu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blioteca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A37-A960-475E-B2AE-2E19E4C3E9A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C0DE0CD2-2961-4FD5-887A-DACF182C6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definition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ag de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început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 [atr1="val1" . . . atrn="valn" ]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ag de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fârşit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u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ag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urt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ag </a:t>
            </a:r>
            <a:r>
              <a:rPr b="1" i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id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 [atr1="val1" . . . atrn="valn" ]/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ume [atr1="val1" . . . atrn="valn" ]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u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73C2-3C93-4431-9F18-54ACD0FDF76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A4EB6443-5D47-4EC5-B2C6-E92EFA92E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definition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l formed 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 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a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gt; " &amp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l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g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quo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gt; " &amp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#60; &amp;62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34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amp;38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&lt;![CDATA[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şir de caractere ignorat de parserul X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D1B7-EA9D-4054-BC81-B33BCADCBE1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7107F362-F302-4AF2-A3D4-ACADEEC3E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definitions (3): namespaces default, explic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6858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gRoot xmlns="URI_definire_spatiu_de_nume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lic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efix:tagRoot xmlns:prefix="URI_definire_spatiu_de_nume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finitions name="ProductServic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Namespace="http://www.ecerami.com/wsdl/ProductService.wsd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="http://schemas.xmlsoap.org/wsdl/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soap="http://schemas.xmlsoap.org/wsdl/soap/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tns="http://www.ecerami.com/wsdl/ProductService.wsd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1="http://www.ecerami.com/schema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efix:nu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 &gt;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-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refix:nu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8478-316D-4E12-8F66-DD0A8C6B9AE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934B82F5-E7CD-440E-81F8-D5D8A3154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TD (Data Type Definition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129528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biblioteca (nume,domeniu+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domeniu (nume,carte*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nume (#PCDATA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carte (titlu,autor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titlu (#PCDATA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autor (#PCDATA)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isbn (#PCDATA)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carte isbn CDATA "0"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4EE-D6AE-49A6-9CB8-A61D0BA0941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4C5AD60B-4C23-41D9-9F9E-19C3D9D61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Schem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6360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chema xmlns:xs="http://www.w3.org/2001/XMLSchema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 name="TipCarte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titlu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autor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attribute name="isbn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 name="TipDomeniu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nume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carte" type="TipCarte"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complexType name="TipBiblioteca"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nume" type="xs:string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domeniu" type="TipDomeniu" minOccurs="1" maxOccurs="unbounded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:element name="biblioteca" type="TipBiblioteca"/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:schema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3E40-292A-45BA-BDB4-1E32B79EBB4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6E4C05B-8C0B-46C5-BD89-77F8018A6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SLT (eXtensible Stylesheet Language family Transformation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38088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sl:version="1.0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l="http://www.w3.org/1999/XSL/Transform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&lt;title&gt;Lista biblioteci&lt;/title&gt;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&lt;table border="1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for-each select="biblioteca/domeniu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&lt;td colspan="2"&gt;&lt;center&gt;&lt;e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value-of select="nume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m&gt;&lt;/center&gt;&lt;/td&gt;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for-each select="carte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xsl:value-of select="titlu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xsl:value-of select="autor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!DOCTYPE biblioteca SYSTEM "biblioteca.dt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e va insera linia de indicare a transformării, adic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                                      </a:t>
            </a: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?xml-stylesheet type="text/xsl" href="biblioteca.xsl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&lt;!DOCTYPE biblioteca SYSTEM "biblioteca.dtd"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2BF-0308-43D2-8921-8CCCD7D0C7D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7B81D71-F9D9-4AB9-A58F-E79A7B1DA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fect XST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4008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D33B-9B33-4337-B8EB-C99D0AD30F2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D97AA5A4-6221-47EE-A78E-1DC72E93E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arse SAX Pyth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xml.s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xml.sax.hand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ax (xml.sax.handler.ContentHandler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isb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Isbn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Titlu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bn = isb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 = xml.sax.make_parser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.setContentHandler(sel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.parse("biblioteca.xml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Element(self, qName, attribute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qName == "carte"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ttributes["isbn"] == self.isbn: self.isIsbn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self.isIsbn == 1 and qName == "titlu" : self.isTitlu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haracters(self, ch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elf.isTitlu == 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Titlu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sIsbn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x = Sax(sys.argv[1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25C-1CBE-4F0F-8EAB-6DD0F694AFE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37878E89-0B74-4B71-A90C-FA372B59B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resource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380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, URN, UL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 (Uniform Resource Identifie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N (- // - Name) special URI semantic ID-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L (- // - Locator)  special URI semantic address-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ML, X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s (HTM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s (C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s (JavaScrip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sing (SAX, D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e (XSL, XS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SON (JavaScript Object Not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0ACF-78D8-480C-9516-6D11462E93F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78B6AF87-A84F-42A3-BF37-FE08A4BBE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arse DOM Pyth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144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xml.dom.minid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xml.dom.minidom import N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ass Dom(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isb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= xml.dom.minidom.parse("biblioteca.xml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carte in document.getElementsByTagName("carte"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carte.getAttribute("isbn") == isbn: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u = carte.getElementsByTagName("titlu")[0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node in titlu.childNo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node.nodeType == Node.TEXT_NODE: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node.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m = Dom(sys.argv[1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5C59-4CFF-4A63-8052-B1ED535FD89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4063E764-38F3-4B65-8F40-DC21889EB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e de parsari XM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397160"/>
          <a:ext cx="6096240" cy="2219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html (JavaScri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.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x.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A903-6A16-49A1-9CEF-622D9A353E0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610F9B0-8F86-4A91-9CE4-617B29BDE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JSON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Biblioteca personala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domeniu": [ 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Informatica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arte": [ 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isbn": "973-97535-5-8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titlu": "De la aritmetica la calculatoar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utor": "Boian Floria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,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isbn": "978-1-594-96-544-9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titlu": "AJAX in lectii de 10 minut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utor": "Ballard Phil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,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Poezi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arte": [   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isbn": "973-95660-2-2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titlu": "Poezii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autor": "Octavian Goga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]  },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nume": "Sanscrita veche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carte": [   ]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8A95-D649-43E6-B3A2-512792941F3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97B3157F-F876-4812-BC21-ECFEC3066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JSON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380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Număr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întreg sau flota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şir cuprins între ghilimele, iar caracterele speciale din şir sunt </a:t>
            </a: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evitate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folosind '\'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valorile true şi 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Obiect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colecţie neordonată cuprinsă între ghilimele ({ . . . }), de perechi </a:t>
            </a: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nume: valoare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, separate prin virgul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– colecţie ordonată cuprinsă între paranteze drepte ([ . . . ]) de valori separate prin virgul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apes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\” \\ \/ \b \f \n \r \t \uhhh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CA4-0CCE-4226-A164-23F9C4EA994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A5DB6C4E-7FD5-4418-8613-440E391DB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666880" y="19051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ntaxa JSON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D:\Florin\Carti\SWMPA\00Http\Sources\JSON\JSON_files\object.gif"/>
          <p:cNvPicPr/>
          <p:nvPr/>
        </p:nvPicPr>
        <p:blipFill>
          <a:blip r:embed="rId1"/>
          <a:stretch/>
        </p:blipFill>
        <p:spPr>
          <a:xfrm>
            <a:off x="1219320" y="533520"/>
            <a:ext cx="5695920" cy="107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Florin\Carti\SWMPA\00Http\Sources\JSON\JSON_files\array.gif"/>
          <p:cNvPicPr/>
          <p:nvPr/>
        </p:nvPicPr>
        <p:blipFill>
          <a:blip r:embed="rId2"/>
          <a:stretch/>
        </p:blipFill>
        <p:spPr>
          <a:xfrm>
            <a:off x="1371600" y="2209680"/>
            <a:ext cx="5695920" cy="1076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D:\Florin\Carti\SWMPA\00Http\Sources\JSON\JSON_files\value.gif"/>
          <p:cNvPicPr/>
          <p:nvPr/>
        </p:nvPicPr>
        <p:blipFill>
          <a:blip r:embed="rId3"/>
          <a:stretch/>
        </p:blipFill>
        <p:spPr>
          <a:xfrm>
            <a:off x="1371600" y="3886200"/>
            <a:ext cx="56959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3789-D772-4FD5-8D62-EB859C828E7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0C7F96D8-5979-498A-812B-ECFB019F6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ntaxa JSON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Florin\Carti\SWMPA\00Http\Sources\JSON\JSON_files\string.gif"/>
          <p:cNvPicPr/>
          <p:nvPr/>
        </p:nvPicPr>
        <p:blipFill>
          <a:blip r:embed="rId1"/>
          <a:stretch/>
        </p:blipFill>
        <p:spPr>
          <a:xfrm>
            <a:off x="1371600" y="609480"/>
            <a:ext cx="5105520" cy="352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D:\Florin\Carti\SWMPA\00Http\Sources\JSON\JSON_files\number.gif"/>
          <p:cNvPicPr/>
          <p:nvPr/>
        </p:nvPicPr>
        <p:blipFill>
          <a:blip r:embed="rId2"/>
          <a:stretch/>
        </p:blipFill>
        <p:spPr>
          <a:xfrm>
            <a:off x="1523880" y="4572000"/>
            <a:ext cx="4781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0FC-18F4-40D7-91CC-1DB4D9BA6B7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4CE6F246-7D8E-46D5-84BF-D6BDAC1CB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ocessing JS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609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Js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isb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t = "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 = open("biblioteca.json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ie = fd.readlin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linie: 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t += linie.strip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= json.loads(continu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domeniu in document["domeniu"]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carte in domeniu["carte"]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t carte["isbn"] == isbn: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carte["titlu"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Json(sys.argv[1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1FAA-C548-4B3F-B5D1-D2CCA404F10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11A684C0-F1FC-438F-A31B-A90CEE8D7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e de procesari JS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3880" y="1397160"/>
          <a:ext cx="3505320" cy="18540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html (JavaScri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son.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B9B-1D6C-469F-B07C-3F3FFE6402D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63C48CB-C02B-4432-8022-44BC738D6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nsport de resurse (trazactie) HTT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1"/>
          <p:cNvGraphicFramePr/>
          <p:nvPr/>
        </p:nvGraphicFramePr>
        <p:xfrm>
          <a:off x="23760" y="609480"/>
          <a:ext cx="901080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609480"/>
                    <a:ext cx="90108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9"/>
          <p:cNvSpPr/>
          <p:nvPr/>
        </p:nvSpPr>
        <p:spPr>
          <a:xfrm>
            <a:off x="228600" y="4038480"/>
            <a:ext cx="86104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lus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/1.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cceptarea de cereri şi răspunsuri pe 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fragmente (chunk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osind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"subtranzacţii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uport pentru stabilirea de 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conexiune permanentă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ai multe cereri pe conexiu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trarea resurselor solicit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f-Modified-Sinc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f-Unmodified-Sinc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71EF-3031-41A5-BD26-16FAB300DCD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52F8E65D-36F9-4D19-8AB0-E91DBB586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erere si raspuns HTT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0" y="380880"/>
            <a:ext cx="632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Calibri"/>
              </a:rPr>
              <a:t>POST /cgi-bin/Cgi.cgi HTTP/1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Accept: text/plain, text/html, image/gif, image/x-xbitmap, image/jp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From: nustiucine@nicideunde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Accept-Language: 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Accept-Encoding: gzip, def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User-Agent: Mozilla/4.0 (compatible; MSIE 6.0; Windows NT 5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Host: florin: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Connection: Keep-Al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2060"/>
                </a:solidFill>
                <a:latin typeface="Calibri"/>
              </a:rPr>
              <a:t>Login=unUserOarecare&amp;Password%3A=oParolaInC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2819520" y="3718080"/>
            <a:ext cx="464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Calibri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Server: Microsoft IIS/4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Date: Mon, 24 Nov 2003 11:07:32 G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Content-type: text/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Last Modified: Sun, 23 Nov 2003 11:07:32 G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Content-Length: 7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HEAD&gt;&lt;TITLE&gt;Prima pagina&lt;/TITLE&gt;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BODY&gt;Salut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B849-AA34-4AE5-8290-A3D8215F0F3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F5FF5DE5-8B95-4151-BC93-F86298834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resource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238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CA1-13EF-44F3-AE98-A533FD4CA3E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9306EC47-358A-44A8-A45C-4F833BC46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ima linie cerere, prima linie raspu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0" y="38088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&lt;NumeMetoda&gt;   &lt;CaleSauURL&gt;   &lt;VersiuneHTT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GET /cale/spre/fisier/index.html HTTP/1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GET /cale/spre/fisier/index.html HTTP/1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GET http://www.cs.ubbcluj.ro/home/studenti/note.html HTTP/1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70c0"/>
                </a:solidFill>
                <a:latin typeface="Calibri"/>
              </a:rPr>
              <a:t>POST /cgi-bin/Cgi.cgi HTTP/1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533520" y="251460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&lt;VersiuneHTTP&gt;   &lt;CodRăspuns&gt;   &lt;StringRăspuns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0 200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0 404 Not F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100 Conti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304 Not Mod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500 Server 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70c0"/>
                </a:solidFill>
                <a:latin typeface="Calibri"/>
              </a:rPr>
              <a:t>HTTP/1.1 501 Not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dRăspun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categori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1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numai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mesaje de inform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2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mesaje de succes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3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redirectarea clientului către un alt UR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4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erori pe partea de clien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5X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indică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erori pe partea de serve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AEA-232C-4E26-9E7D-B0EE847076D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06E0C987-2BEC-46C2-AC40-B21558D82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 head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380880"/>
          <a:ext cx="7772400" cy="1954440"/>
        </p:xfrm>
        <a:graphic>
          <a:graphicData uri="http://schemas.openxmlformats.org/drawingml/2006/table">
            <a:tbl>
              <a:tblPr/>
              <a:tblGrid>
                <a:gridCol w="1481040"/>
                <a:gridCol w="6291360"/>
              </a:tblGrid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der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L-ul de bază folosit pentru rezolvarea URL-urilor relative din interiorul corpului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ccept-Enc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urile de codificări accep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 mai potrivit limbaj pentru înţelegerea corpului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gimea corpului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l unde este localizată resur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ul MIME în care este codificat corpul mesaj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514600" y="2286000"/>
          <a:ext cx="6629400" cy="2057400"/>
        </p:xfrm>
        <a:graphic>
          <a:graphicData uri="http://schemas.openxmlformats.org/drawingml/2006/table">
            <a:tbl>
              <a:tblPr/>
              <a:tblGrid>
                <a:gridCol w="1117440"/>
                <a:gridCol w="5511960"/>
              </a:tblGrid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-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resa maşini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resa email a userulu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maşinii server şi portul la care aşteaptă acest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fe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L-ul documentului care conţine URI-ul de la care s-a lansat cerere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A-Di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ţii despre caracteristicile display-ului maşini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A-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ul de operare (şi versiunea lui) pe care rulează maşina clien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A-Pix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ţiii privind pixelii display-ului cli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ser-A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procesului client (browser) de la care s-a făcut cerere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0" y="4419720"/>
          <a:ext cx="7924680" cy="2133360"/>
        </p:xfrm>
        <a:graphic>
          <a:graphicData uri="http://schemas.openxmlformats.org/drawingml/2006/table">
            <a:tbl>
              <a:tblPr/>
              <a:tblGrid>
                <a:gridCol w="1650960"/>
                <a:gridCol w="6273720"/>
              </a:tblGrid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şi ora GMT a cere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-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ultimei modificări a unei resurse fişi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himea răspunsulu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a metodelor de cerere suportate de server pentru această resurs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ry-Af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indică un moment la care se reîncearcă furnizarea resursei, dacă ea nu este momentan disponibil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şi versiunea serverului Web (de aplicaţie), eventual şinumele sistemului de operar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ul din antetul documentului HTML în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B837-FD39-41F9-B1D2-1F480D7D236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D4CEFDDB-45EA-4567-A037-4666C0018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 MIME typ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4495680" cy="118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2280" y="1828800"/>
          <a:ext cx="8763120" cy="4648320"/>
        </p:xfrm>
        <a:graphic>
          <a:graphicData uri="http://schemas.openxmlformats.org/drawingml/2006/table">
            <a:tbl>
              <a:tblPr/>
              <a:tblGrid>
                <a:gridCol w="990720"/>
                <a:gridCol w="3886200"/>
                <a:gridCol w="3886200"/>
              </a:tblGrid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p fiş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M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xt/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ASC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ideo/x-ms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octet-st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 binar folosit în aplica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x-www-form-urlenco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ţinut prelucrabil de un program (script) CG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ms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MS 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xml-d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or D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octet-st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 binar folosit în aplica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xt/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age/p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im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jp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im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udio/m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p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P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postscri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postscri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xt/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şi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vnd.ms-exc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exc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x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X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plication/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hivă z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FFE3-55F7-4766-94A6-FC1BCA93EF7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7500FAEA-233F-451F-AD1F-DF8B7310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609480"/>
          <a:ext cx="8763120" cy="545472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1066680"/>
                <a:gridCol w="4419720"/>
                <a:gridCol w="1600200"/>
              </a:tblGrid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ţ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oda HT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ţie SQ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 Ba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lica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li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rea unei noi resur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 resurs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 la URI-ul specific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ăspuns reprezentarea resursei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ualizarea unei resurse deja exist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gerea resurs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e 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ai antetul resurs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gnostic, copii ale rezultatelor altor cer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xiuni speciale folosind pr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oarce 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todelor HTTP posi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384F-44C4-4F2F-9550-BE02369FC14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64D2C30-B72E-43F7-AFCD-28EBF66D9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 prezentare generala 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9" descr="questionmark.jpg"/>
          <p:cNvPicPr/>
          <p:nvPr/>
        </p:nvPicPr>
        <p:blipFill>
          <a:blip r:embed="rId1"/>
          <a:stretch/>
        </p:blipFill>
        <p:spPr>
          <a:xfrm>
            <a:off x="1752480" y="60948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6F60-CAB2-4A82-8A79-CBCBDF60CE9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DC1192D7-ECB2-49A1-A426-4B7074E75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C810-70DB-4CCC-A272-FA4202519E8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9BB51A78-5540-491E-A2BF-9F376401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RI, URN, UR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80320" y="685800"/>
            <a:ext cx="70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web server resource has a name, so clients can point out what resources th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e interested in. This resource name is called a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niform resource identifi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or U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28600" y="144864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niform resource loca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URL) is the most common form of resource identifier. URLs describe the specific location of a resource on a particular serv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RLs specify protocol, server, and local resourc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781680" cy="2630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561240" y="5563440"/>
            <a:ext cx="69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econd flavor of URI is the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uniform resource nam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or URN. A URN serves as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ique name for a particular piece of content, independent of where the resour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urrently reside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RNs are still experimental and not yet widely adopted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B52C-A1CF-4329-B394-2DB141C76C0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22EA0EF8-9814-41D3-BD31-411183F8D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RI, URN, URL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7621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&lt;protocol&gt;:[&lt;user&gt;@]&lt;host&gt;[:&lt;port&gt;][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&gt;][?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&gt;][#&lt;fragment&gt;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ubbcluj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ubbcluj.ro/cluj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scs.ubbcluj.ro:8080/calcul/index.jsp?nr1=50&amp;sir1=Ceva&amp;nr2=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scs.ubbcluj.ro:8080/calcul/medie?nr1=50&amp;sir1=Ceva&amp;nr2=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www.cs.ubbcluj.ro/~florin/SO/index.html#ultim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en.wikipedia.org/wiki/URI#Examples_of_URI_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:/d:/agenda/departament/fisier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://home/cs/florin/Socket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tp://ftp.netscape.com/pub/Linux/sh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lto:pop@scs.ubbcluj.ro?subject=Test&amp;body=Salut%oAtinere%20interna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s: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20 – F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21 – F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25 – SM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37 – TI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80 – HTT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443 – HTT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1099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late: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www.ser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/user/{userid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http://www.ser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/users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d015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941-EE57-417C-807E-DD2153EC3C8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CAB4441E-50BC-483F-9F0D-EE213E656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6832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7086600" y="533520"/>
            <a:ext cx="1600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Mozilla Firefox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ternet Explor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Ope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Safar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Google Chrom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KD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ML, XHTML, Brows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34DD-ED34-42EA-8D57-9801F6B0812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665BB62A-633B-48B9-BADA-E44CD6921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X)HTML source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3808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http://www.w3.org/TR/xhtml1/DTD/xhtml1-transitional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="http://www.w3.org/1999/xhtml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Primul document XHTML&lt;/tit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 rel="stylesheet" rev="stylesheet" href="forma.css"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cript src="rotire.js" type="text/javascript" language="javascript"&gt;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Primul exemplu XHTML&lt;/h1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img src="ubb.jpg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img src="gb.jpg" id="poze"/&gt;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Universitatea Babes-Bolyai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Imagini panoramice din Cluj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032F-C9DD-4202-A208-0ED92E1FD8E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C5AE183D-97EC-4E33-910D-56AEBD071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X)HTML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esta este un document minimal XHTM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 arata structura de baza si conceptul de anco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ru informatii&lt;br/&gt; suplimentare despre XHTML se poate consult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="http://www.w3.org/TR/xhtml11/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ezentare XHTML&lt;/a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ca doriti sa trimiteti un E-mail persoanei car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ris acest fisie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 rog sa o face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 Reperele persoanei su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 = "http://cs.ubbcluj.ro/~florin"&gt;pagina personala&lt;/a&gt; 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 = "mailto:florin@cs.ubbcluj.ro"&gt;email&lt;/a&gt;. &lt;br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&gt;Remarcati diferentele intre modul de scri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XHTML si ceea ce apare pe ecr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6B4-BBBD-4F5F-8ECB-D5BCF11052D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746748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HTTP </a:t>
            </a:r>
            <a:fld id="{ED8C3D21-4402-4CCD-A1FB-A4748C437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SS 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80880"/>
            <a:ext cx="914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yellow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black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20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family: "Lucida Grande", Verdana, Arial, Helvetica, sans-seri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28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cent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collapse: collaps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d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dding: 10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: 2px #666 sol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cent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24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g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:300px; height:125p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_Boian</cp:lastModifiedBy>
  <dcterms:modified xsi:type="dcterms:W3CDTF">2010-03-18T16:43:04Z</dcterms:modified>
  <cp:revision>44</cp:revision>
  <dc:subject/>
  <dc:title>HTTP: prezentare generala</dc:title>
</cp:coreProperties>
</file>